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915-D564-488F-BBE4-0844D1D183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EC7-9547-4BBF-BFDA-0E6AB6E8A6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403280" y="865080"/>
            <a:ext cx="4043520" cy="3032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0E53-E115-407B-B566-D956AEAFA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93880" y="496800"/>
            <a:ext cx="5073480" cy="3805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572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1E05-7ADF-4B49-A916-C80E1DA8AC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403280" y="865080"/>
            <a:ext cx="4043520" cy="3032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825-C7E4-47D7-B82D-30CB2723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20B-F6E4-4ECB-9CB9-27405AC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FFE-926F-415F-BD98-B020C3F5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AD4-58A6-49DA-B056-23924100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A17-0D0A-4AE9-9C79-D0007C9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6D2-FF51-4D3A-B81C-9594C48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C06-84A1-4E90-864B-97AE1281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8F5-2225-42BD-BAAA-6619103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AF0-1AB5-4B77-9D39-E24CFC3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90E-71EC-4A41-B8E1-78B77E8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243-1995-4A80-8301-E5C3EE5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A6E-45BA-40F3-B3EF-1E7661E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F58E-DAF9-4DF3-8931-6D8E1199D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eader-slide-wholepage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RSASecurity_logo-slides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858960" cy="6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7010280" y="6172200"/>
          <a:ext cx="1905120" cy="3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6172200"/>
                    <a:ext cx="19051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060920" y="1600200"/>
            <a:ext cx="8083080" cy="5040000"/>
            <a:chOff x="1060920" y="1600200"/>
            <a:chExt cx="8083080" cy="5040000"/>
          </a:xfrm>
        </p:grpSpPr>
        <p:sp>
          <p:nvSpPr>
            <p:cNvPr id="53" name=""/>
            <p:cNvSpPr/>
            <p:nvPr/>
          </p:nvSpPr>
          <p:spPr>
            <a:xfrm>
              <a:off x="1371600" y="2209680"/>
              <a:ext cx="6172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066680" y="1600200"/>
            <a:ext cx="4795920" cy="87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600200"/>
                      <a:ext cx="479592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1060920" y="2971800"/>
              <a:ext cx="68209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Двухфакторная аутентификац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RSA Secur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4080" y="4572000"/>
              <a:ext cx="601992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егтяре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ладимир Юрьевич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deg@demos.s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хар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силий Петрович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svp@demos.s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л. 956-60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пия презентации на www.demos.su/integrat/secur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2788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раммные ток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06240"/>
            <a:ext cx="6095880" cy="48848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версии аппаратных токен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Устанавливается на компьютер польз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ддерживаются различными устройствами (карманные компьютеры и сотовые телеф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Легкие в установке и исполь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ия v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лная поддержка RAS в Win</a:t>
            </a:r>
            <a:r>
              <a:rPr b="1" lang="en-US" sz="1600" spc="-1" strike="noStrike">
                <a:solidFill>
                  <a:srgbClr val="4d5981"/>
                </a:solidFill>
                <a:latin typeface="Arial"/>
              </a:rPr>
              <a:t>dows </a:t>
            </a: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ддержка PKCS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Будет работать с квалифицированными партнера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лная поддержка PC/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Улучшенные средства управления смарт-карт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Модуль перезагрузки кар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Средства передачи начального чис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ecurID_software" descr=""/>
          <p:cNvPicPr/>
          <p:nvPr/>
        </p:nvPicPr>
        <p:blipFill>
          <a:blip r:embed="rId1"/>
          <a:stretch/>
        </p:blipFill>
        <p:spPr>
          <a:xfrm>
            <a:off x="5956200" y="2819520"/>
            <a:ext cx="318780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0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карманных компьюте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5708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использовать Palm Pilot как RSA SecurID аутентифик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ит вектор генерации и приложения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яет необходимость иметь дополнительный аппаратный ток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 устанавливать и использ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аковые цены с программными токенами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almpilot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9684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ricsson R3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ный токен SecurID функционально внедренный в сотовый телефон Ericsson R3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ет беспроводное соединение с корпоративными сетями для работы с e-mail и WAP сервис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ребует установки дополнительно программно обеспечения; Простота в настройках конечного пользователя и исполь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R380%20open2" descr=""/>
          <p:cNvPicPr/>
          <p:nvPr/>
        </p:nvPicPr>
        <p:blipFill>
          <a:blip r:embed="rId1"/>
          <a:stretch/>
        </p:blipFill>
        <p:spPr>
          <a:xfrm>
            <a:off x="1371600" y="5029200"/>
            <a:ext cx="4343400" cy="1270080"/>
          </a:xfrm>
          <a:prstGeom prst="rect">
            <a:avLst/>
          </a:prstGeom>
          <a:ln w="0">
            <a:noFill/>
          </a:ln>
        </p:spPr>
      </p:pic>
      <p:pic>
        <p:nvPicPr>
          <p:cNvPr id="191" name="eric135b" descr=""/>
          <p:cNvPicPr/>
          <p:nvPr/>
        </p:nvPicPr>
        <p:blipFill>
          <a:blip r:embed="rId2"/>
          <a:stretch/>
        </p:blipFill>
        <p:spPr>
          <a:xfrm>
            <a:off x="5143680" y="5600880"/>
            <a:ext cx="1981080" cy="533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птографические устройства аутентификац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34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SA SecurID 3100 криптографическая смарт-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Хранит двойные X.509v3 сертификаты и двойные пары RSA ключ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Хранит PKI удостоверения и вектор генерации Secu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Дает право доступа в здания корпорации и хранит идентификатор корпо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яет функциональ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K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критических прило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ый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eb</a:t>
            </a: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-доступ (S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ая электронная почта (S/M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ый вход на компьютер пользов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имо с Gemplus GPK 8000 (8K Mem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smartcard_3100_ID" descr=""/>
          <p:cNvPicPr/>
          <p:nvPr/>
        </p:nvPicPr>
        <p:blipFill>
          <a:blip r:embed="rId1"/>
          <a:stretch/>
        </p:blipFill>
        <p:spPr>
          <a:xfrm>
            <a:off x="6800760" y="3828960"/>
            <a:ext cx="23432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SC3100-Serial-Name-Logo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240984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изация смарт-ка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07696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SecurID 3100 смарт-карты создаются на производстве RSA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Встроено два сертификата и пара RSA ключе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Регистрация сертификата в RSA Keon Deskt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Графическая персонализация карты от RSA Sec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5981"/>
                </a:solidFill>
                <a:latin typeface="Arial"/>
              </a:rPr>
              <a:t>Логотип компании ; Имя сотрудника ; Серийный ном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Смарт-карты изготавливаются по проекту пользовател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Магнитная линия для доступа в зда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sd3100_white-trans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562480" cy="1733400"/>
          </a:xfrm>
          <a:prstGeom prst="rect">
            <a:avLst/>
          </a:prstGeom>
          <a:ln w="0">
            <a:noFill/>
          </a:ln>
        </p:spPr>
      </p:pic>
      <p:pic>
        <p:nvPicPr>
          <p:cNvPr id="200" name="SC3100-Serial-Name-Logo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562120" cy="173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4028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 Card Studio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создания персональных смарт-ка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ет возможность производить собственные смарт-кар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легчает создание новых 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легчает восстановление потерянных 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Уменьшает временные и финансовые затр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105520" y="3276720"/>
            <a:ext cx="3883680" cy="2775240"/>
            <a:chOff x="5105520" y="3276720"/>
            <a:chExt cx="3883680" cy="2775240"/>
          </a:xfrm>
        </p:grpSpPr>
        <p:grpSp>
          <p:nvGrpSpPr>
            <p:cNvPr id="205" name=""/>
            <p:cNvGrpSpPr/>
            <p:nvPr/>
          </p:nvGrpSpPr>
          <p:grpSpPr>
            <a:xfrm>
              <a:off x="5105520" y="3276720"/>
              <a:ext cx="3883680" cy="2775240"/>
              <a:chOff x="5105520" y="3276720"/>
              <a:chExt cx="3883680" cy="2775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105520" y="3276720"/>
                <a:ext cx="3883680" cy="27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70160" y="4097160"/>
                <a:ext cx="2234880" cy="950040"/>
              </a:xfrm>
              <a:custGeom>
                <a:avLst/>
                <a:gdLst/>
                <a:ahLst/>
                <a:rect l="l" t="t" r="r" b="b"/>
                <a:pathLst>
                  <a:path w="1110" h="516">
                    <a:moveTo>
                      <a:pt x="0" y="262"/>
                    </a:moveTo>
                    <a:cubicBezTo>
                      <a:pt x="56" y="131"/>
                      <a:pt x="112" y="0"/>
                      <a:pt x="213" y="30"/>
                    </a:cubicBezTo>
                    <a:cubicBezTo>
                      <a:pt x="314" y="60"/>
                      <a:pt x="506" y="370"/>
                      <a:pt x="607" y="443"/>
                    </a:cubicBezTo>
                    <a:cubicBezTo>
                      <a:pt x="708" y="516"/>
                      <a:pt x="750" y="499"/>
                      <a:pt x="820" y="469"/>
                    </a:cubicBezTo>
                    <a:cubicBezTo>
                      <a:pt x="890" y="439"/>
                      <a:pt x="978" y="290"/>
                      <a:pt x="1026" y="262"/>
                    </a:cubicBezTo>
                    <a:cubicBezTo>
                      <a:pt x="1074" y="234"/>
                      <a:pt x="1098" y="289"/>
                      <a:pt x="1110" y="30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789320" y="4503240"/>
                <a:ext cx="1175760" cy="766800"/>
                <a:chOff x="7789320" y="4503240"/>
                <a:chExt cx="1175760" cy="7668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7789320" y="4503240"/>
                  <a:ext cx="1175760" cy="766800"/>
                  <a:chOff x="7789320" y="4503240"/>
                  <a:chExt cx="1175760" cy="766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5547800">
                    <a:off x="7707600" y="4811040"/>
                    <a:ext cx="5734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346">
                        <a:moveTo>
                          <a:pt x="0" y="253"/>
                        </a:moveTo>
                        <a:lnTo>
                          <a:pt x="351" y="345"/>
                        </a:lnTo>
                        <a:lnTo>
                          <a:pt x="725" y="63"/>
                        </a:lnTo>
                        <a:lnTo>
                          <a:pt x="423" y="0"/>
                        </a:lnTo>
                        <a:lnTo>
                          <a:pt x="0" y="253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5547800">
                    <a:off x="8375400" y="4578480"/>
                    <a:ext cx="277920" cy="86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001">
                        <a:moveTo>
                          <a:pt x="0" y="0"/>
                        </a:moveTo>
                        <a:lnTo>
                          <a:pt x="351" y="91"/>
                        </a:lnTo>
                        <a:lnTo>
                          <a:pt x="351" y="1000"/>
                        </a:lnTo>
                        <a:lnTo>
                          <a:pt x="0" y="8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5547800">
                    <a:off x="8231400" y="4232160"/>
                    <a:ext cx="297000" cy="10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6" h="1191">
                        <a:moveTo>
                          <a:pt x="0" y="282"/>
                        </a:moveTo>
                        <a:lnTo>
                          <a:pt x="0" y="1190"/>
                        </a:lnTo>
                        <a:lnTo>
                          <a:pt x="375" y="759"/>
                        </a:lnTo>
                        <a:lnTo>
                          <a:pt x="375" y="0"/>
                        </a:lnTo>
                        <a:lnTo>
                          <a:pt x="0" y="282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789320" y="4722480"/>
                    <a:ext cx="349200" cy="480240"/>
                    <a:chOff x="7789320" y="4722480"/>
                    <a:chExt cx="349200" cy="4802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5547800">
                      <a:off x="7722000" y="4854600"/>
                      <a:ext cx="43704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260">
                          <a:moveTo>
                            <a:pt x="0" y="194"/>
                          </a:moveTo>
                          <a:lnTo>
                            <a:pt x="251" y="259"/>
                          </a:lnTo>
                          <a:lnTo>
                            <a:pt x="552" y="43"/>
                          </a:lnTo>
                          <a:lnTo>
                            <a:pt x="329" y="0"/>
                          </a:lnTo>
                          <a:lnTo>
                            <a:pt x="0" y="19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5547800">
                      <a:off x="7844400" y="4744800"/>
                      <a:ext cx="2394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272">
                          <a:moveTo>
                            <a:pt x="0" y="215"/>
                          </a:moveTo>
                          <a:lnTo>
                            <a:pt x="302" y="0"/>
                          </a:lnTo>
                          <a:lnTo>
                            <a:pt x="302" y="51"/>
                          </a:lnTo>
                          <a:lnTo>
                            <a:pt x="0" y="271"/>
                          </a:lnTo>
                          <a:lnTo>
                            <a:pt x="0" y="215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5547800">
                      <a:off x="7968960" y="5011920"/>
                      <a:ext cx="1983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1" h="121">
                          <a:moveTo>
                            <a:pt x="250" y="64"/>
                          </a:moveTo>
                          <a:lnTo>
                            <a:pt x="250" y="120"/>
                          </a:lnTo>
                          <a:lnTo>
                            <a:pt x="0" y="53"/>
                          </a:lnTo>
                          <a:lnTo>
                            <a:pt x="0" y="0"/>
                          </a:lnTo>
                          <a:lnTo>
                            <a:pt x="250" y="64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8094960" y="4815360"/>
                  <a:ext cx="831240" cy="394200"/>
                  <a:chOff x="8094960" y="4815360"/>
                  <a:chExt cx="831240" cy="3942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15547800">
                    <a:off x="8386560" y="4612680"/>
                    <a:ext cx="248040" cy="79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926">
                        <a:moveTo>
                          <a:pt x="0" y="0"/>
                        </a:moveTo>
                        <a:lnTo>
                          <a:pt x="313" y="82"/>
                        </a:lnTo>
                        <a:lnTo>
                          <a:pt x="313" y="925"/>
                        </a:lnTo>
                        <a:lnTo>
                          <a:pt x="0" y="78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15547800">
                    <a:off x="8474040" y="4740120"/>
                    <a:ext cx="27360" cy="70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20">
                        <a:moveTo>
                          <a:pt x="1" y="0"/>
                        </a:moveTo>
                        <a:lnTo>
                          <a:pt x="0" y="807"/>
                        </a:lnTo>
                        <a:lnTo>
                          <a:pt x="33" y="819"/>
                        </a:lnTo>
                        <a:lnTo>
                          <a:pt x="34" y="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547800">
                    <a:off x="8483400" y="4660200"/>
                    <a:ext cx="29160" cy="72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38">
                        <a:moveTo>
                          <a:pt x="0" y="0"/>
                        </a:moveTo>
                        <a:lnTo>
                          <a:pt x="0" y="821"/>
                        </a:lnTo>
                        <a:lnTo>
                          <a:pt x="33" y="837"/>
                        </a:lnTo>
                        <a:lnTo>
                          <a:pt x="36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15547800">
                    <a:off x="8497080" y="4580640"/>
                    <a:ext cx="29160" cy="72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44">
                        <a:moveTo>
                          <a:pt x="1" y="0"/>
                        </a:moveTo>
                        <a:lnTo>
                          <a:pt x="0" y="824"/>
                        </a:lnTo>
                        <a:lnTo>
                          <a:pt x="36" y="843"/>
                        </a:lnTo>
                        <a:lnTo>
                          <a:pt x="34" y="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5436720" y="4053600"/>
                <a:ext cx="1816200" cy="1418400"/>
                <a:chOff x="5436720" y="4053600"/>
                <a:chExt cx="1816200" cy="14184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5436720" y="4759200"/>
                  <a:ext cx="312840" cy="331200"/>
                  <a:chOff x="5436720" y="4759200"/>
                  <a:chExt cx="312840" cy="33120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5436720" y="4759200"/>
                    <a:ext cx="312840" cy="331200"/>
                    <a:chOff x="5436720" y="4759200"/>
                    <a:chExt cx="312840" cy="33120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rot="15547800">
                      <a:off x="5355720" y="4906080"/>
                      <a:ext cx="2869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6" h="346">
                          <a:moveTo>
                            <a:pt x="0" y="253"/>
                          </a:moveTo>
                          <a:lnTo>
                            <a:pt x="351" y="345"/>
                          </a:lnTo>
                          <a:lnTo>
                            <a:pt x="725" y="63"/>
                          </a:lnTo>
                          <a:lnTo>
                            <a:pt x="423" y="0"/>
                          </a:lnTo>
                          <a:lnTo>
                            <a:pt x="0" y="253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rot="15547800">
                      <a:off x="5563440" y="4887000"/>
                      <a:ext cx="138960" cy="21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" h="1001">
                          <a:moveTo>
                            <a:pt x="0" y="0"/>
                          </a:moveTo>
                          <a:lnTo>
                            <a:pt x="351" y="91"/>
                          </a:lnTo>
                          <a:lnTo>
                            <a:pt x="351" y="1000"/>
                          </a:lnTo>
                          <a:lnTo>
                            <a:pt x="0" y="8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15547800">
                      <a:off x="5511960" y="4730760"/>
                      <a:ext cx="14868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1191">
                          <a:moveTo>
                            <a:pt x="0" y="282"/>
                          </a:moveTo>
                          <a:lnTo>
                            <a:pt x="0" y="1190"/>
                          </a:lnTo>
                          <a:lnTo>
                            <a:pt x="375" y="759"/>
                          </a:lnTo>
                          <a:lnTo>
                            <a:pt x="375" y="0"/>
                          </a:lnTo>
                          <a:lnTo>
                            <a:pt x="0" y="282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5438880" y="4829040"/>
                      <a:ext cx="105840" cy="227160"/>
                      <a:chOff x="5438880" y="4829040"/>
                      <a:chExt cx="105840" cy="22716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 rot="15547800">
                        <a:off x="5376600" y="4916160"/>
                        <a:ext cx="2185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3" h="260">
                            <a:moveTo>
                              <a:pt x="0" y="194"/>
                            </a:moveTo>
                            <a:lnTo>
                              <a:pt x="251" y="259"/>
                            </a:lnTo>
                            <a:lnTo>
                              <a:pt x="552" y="43"/>
                            </a:lnTo>
                            <a:lnTo>
                              <a:pt x="329" y="0"/>
                            </a:lnTo>
                            <a:lnTo>
                              <a:pt x="0" y="194"/>
                            </a:lnTo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 rot="15547800">
                        <a:off x="5427000" y="4864320"/>
                        <a:ext cx="11988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272">
                            <a:moveTo>
                              <a:pt x="0" y="215"/>
                            </a:moveTo>
                            <a:lnTo>
                              <a:pt x="302" y="0"/>
                            </a:lnTo>
                            <a:lnTo>
                              <a:pt x="302" y="51"/>
                            </a:lnTo>
                            <a:lnTo>
                              <a:pt x="0" y="271"/>
                            </a:lnTo>
                            <a:lnTo>
                              <a:pt x="0" y="215"/>
                            </a:lnTo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rot="15547800">
                        <a:off x="5473080" y="4984560"/>
                        <a:ext cx="990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1" h="121">
                            <a:moveTo>
                              <a:pt x="250" y="64"/>
                            </a:moveTo>
                            <a:lnTo>
                              <a:pt x="250" y="120"/>
                            </a:lnTo>
                            <a:lnTo>
                              <a:pt x="0" y="53"/>
                            </a:lnTo>
                            <a:lnTo>
                              <a:pt x="0" y="0"/>
                            </a:lnTo>
                            <a:lnTo>
                              <a:pt x="250" y="64"/>
                            </a:lnTo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5524920" y="4913640"/>
                    <a:ext cx="214200" cy="158760"/>
                    <a:chOff x="5524920" y="4913640"/>
                    <a:chExt cx="214200" cy="1587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rot="15547800">
                      <a:off x="5569920" y="4895640"/>
                      <a:ext cx="12420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4" h="926">
                          <a:moveTo>
                            <a:pt x="0" y="0"/>
                          </a:moveTo>
                          <a:lnTo>
                            <a:pt x="313" y="82"/>
                          </a:lnTo>
                          <a:lnTo>
                            <a:pt x="313" y="925"/>
                          </a:lnTo>
                          <a:lnTo>
                            <a:pt x="0" y="78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rot="15547800">
                      <a:off x="5623200" y="4945680"/>
                      <a:ext cx="1368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820">
                          <a:moveTo>
                            <a:pt x="1" y="0"/>
                          </a:moveTo>
                          <a:lnTo>
                            <a:pt x="0" y="807"/>
                          </a:lnTo>
                          <a:lnTo>
                            <a:pt x="33" y="819"/>
                          </a:lnTo>
                          <a:lnTo>
                            <a:pt x="34" y="9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547800">
                      <a:off x="5622120" y="4908600"/>
                      <a:ext cx="144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838">
                          <a:moveTo>
                            <a:pt x="0" y="0"/>
                          </a:moveTo>
                          <a:lnTo>
                            <a:pt x="0" y="821"/>
                          </a:lnTo>
                          <a:lnTo>
                            <a:pt x="33" y="837"/>
                          </a:lnTo>
                          <a:lnTo>
                            <a:pt x="36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rot="15547800">
                      <a:off x="5621760" y="4871160"/>
                      <a:ext cx="144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844">
                          <a:moveTo>
                            <a:pt x="1" y="0"/>
                          </a:moveTo>
                          <a:lnTo>
                            <a:pt x="0" y="824"/>
                          </a:lnTo>
                          <a:lnTo>
                            <a:pt x="36" y="843"/>
                          </a:lnTo>
                          <a:lnTo>
                            <a:pt x="34" y="8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5505480" y="5127840"/>
                  <a:ext cx="253080" cy="194760"/>
                  <a:chOff x="5505480" y="5127840"/>
                  <a:chExt cx="253080" cy="19476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5505480" y="5127840"/>
                    <a:ext cx="253080" cy="194760"/>
                  </a:xfrm>
                  <a:prstGeom prst="roundRect">
                    <a:avLst>
                      <a:gd name="adj" fmla="val 10731"/>
                    </a:avLst>
                  </a:prstGeom>
                  <a:gradFill rotWithShape="0">
                    <a:gsLst>
                      <a:gs pos="0">
                        <a:srgbClr val="00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24560" y="5208120"/>
                    <a:ext cx="37080" cy="30240"/>
                  </a:xfrm>
                  <a:prstGeom prst="ellipse">
                    <a:avLst/>
                  </a:prstGeom>
                  <a:solidFill>
                    <a:srgbClr val="ffff4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0" name="LOGO_JPG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511240" y="5293800"/>
                    <a:ext cx="185040" cy="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68200" y="5153040"/>
                    <a:ext cx="77040" cy="127800"/>
                    <a:chOff x="5668200" y="5153040"/>
                    <a:chExt cx="77040" cy="12780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668200" y="5153040"/>
                      <a:ext cx="77040" cy="12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43" name="dstorey" descr=""/>
                    <p:cNvPicPr/>
                    <p:nvPr/>
                  </p:nvPicPr>
                  <p:blipFill>
                    <a:blip r:embed="rId2"/>
                    <a:srcRect l="15001" t="0" r="9993" b="0"/>
                    <a:stretch/>
                  </p:blipFill>
                  <p:spPr>
                    <a:xfrm>
                      <a:off x="5673600" y="5158800"/>
                      <a:ext cx="6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244" name="desktopalon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25520" y="4053600"/>
                  <a:ext cx="1427400" cy="141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>
                  <a:off x="5551560" y="4520880"/>
                  <a:ext cx="332280" cy="271800"/>
                </a:xfrm>
                <a:custGeom>
                  <a:avLst/>
                  <a:gdLst/>
                  <a:ahLst/>
                  <a:rect l="l" t="t" r="r" b="b"/>
                  <a:pathLst>
                    <a:path w="185" h="200">
                      <a:moveTo>
                        <a:pt x="4" y="200"/>
                      </a:moveTo>
                      <a:cubicBezTo>
                        <a:pt x="2" y="126"/>
                        <a:pt x="0" y="52"/>
                        <a:pt x="30" y="26"/>
                      </a:cubicBezTo>
                      <a:cubicBezTo>
                        <a:pt x="60" y="0"/>
                        <a:pt x="160" y="44"/>
                        <a:pt x="185" y="45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779240" y="3414600"/>
                <a:ext cx="531360" cy="531000"/>
                <a:chOff x="7779240" y="3414600"/>
                <a:chExt cx="531360" cy="531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779240" y="3414600"/>
                  <a:ext cx="531360" cy="53100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40520" y="3602520"/>
                  <a:ext cx="201240" cy="1789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92600" y="4005000"/>
                <a:ext cx="424080" cy="631440"/>
                <a:chOff x="7392600" y="4005000"/>
                <a:chExt cx="424080" cy="63144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7392600" y="4290120"/>
                  <a:ext cx="400320" cy="346320"/>
                  <a:chOff x="7392600" y="4290120"/>
                  <a:chExt cx="400320" cy="3463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>
                    <a:off x="7392600" y="4290120"/>
                    <a:ext cx="213840" cy="259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>
                    <a:off x="7567920" y="4306680"/>
                    <a:ext cx="36720" cy="32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602480" y="4295520"/>
                    <a:ext cx="190440" cy="258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466040" y="4005000"/>
                  <a:ext cx="350640" cy="359280"/>
                  <a:chOff x="7466040" y="4005000"/>
                  <a:chExt cx="350640" cy="3592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3728600">
                    <a:off x="7608240" y="3991320"/>
                    <a:ext cx="108000" cy="315720"/>
                  </a:xfrm>
                  <a:prstGeom prst="can">
                    <a:avLst>
                      <a:gd name="adj" fmla="val 18171"/>
                    </a:avLst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466040" y="4102560"/>
                    <a:ext cx="284400" cy="261720"/>
                  </a:xfrm>
                  <a:prstGeom prst="cube">
                    <a:avLst>
                      <a:gd name="adj" fmla="val 38962"/>
                    </a:avLst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7066440" y="4307400"/>
                <a:ext cx="492840" cy="655560"/>
              </a:xfrm>
              <a:custGeom>
                <a:avLst/>
                <a:gdLst/>
                <a:ahLst/>
                <a:rect l="l" t="t" r="r" b="b"/>
                <a:pathLst>
                  <a:path w="245" h="356">
                    <a:moveTo>
                      <a:pt x="0" y="316"/>
                    </a:moveTo>
                    <a:cubicBezTo>
                      <a:pt x="66" y="336"/>
                      <a:pt x="133" y="356"/>
                      <a:pt x="174" y="303"/>
                    </a:cubicBezTo>
                    <a:cubicBezTo>
                      <a:pt x="215" y="250"/>
                      <a:pt x="235" y="44"/>
                      <a:pt x="245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8155440" y="4505760"/>
                <a:ext cx="396720" cy="267120"/>
                <a:chOff x="8155440" y="4505760"/>
                <a:chExt cx="396720" cy="267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155440" y="4505760"/>
                  <a:ext cx="396720" cy="267120"/>
                </a:xfrm>
                <a:prstGeom prst="roundRect">
                  <a:avLst>
                    <a:gd name="adj" fmla="val 10731"/>
                  </a:avLst>
                </a:pr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185680" y="4615920"/>
                  <a:ext cx="58320" cy="41760"/>
                </a:xfrm>
                <a:prstGeom prst="ellipse">
                  <a:avLst/>
                </a:prstGeom>
                <a:solidFill>
                  <a:srgbClr val="ffff4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LOGO_JPG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64800" y="4733280"/>
                  <a:ext cx="290160" cy="34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2" name=""/>
                <p:cNvGrpSpPr/>
                <p:nvPr/>
              </p:nvGrpSpPr>
              <p:grpSpPr>
                <a:xfrm>
                  <a:off x="8410320" y="4540320"/>
                  <a:ext cx="120600" cy="174960"/>
                  <a:chOff x="8410320" y="4540320"/>
                  <a:chExt cx="120600" cy="1749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8410320" y="4540320"/>
                    <a:ext cx="120600" cy="17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4" name="dstorey" descr=""/>
                  <p:cNvPicPr/>
                  <p:nvPr/>
                </p:nvPicPr>
                <p:blipFill>
                  <a:blip r:embed="rId5"/>
                  <a:srcRect l="15001" t="0" r="9993" b="0"/>
                  <a:stretch/>
                </p:blipFill>
                <p:spPr>
                  <a:xfrm>
                    <a:off x="8418960" y="4548240"/>
                    <a:ext cx="105840" cy="15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65" name=""/>
              <p:cNvSpPr/>
              <p:nvPr/>
            </p:nvSpPr>
            <p:spPr>
              <a:xfrm>
                <a:off x="6329520" y="3444840"/>
                <a:ext cx="177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41760" y="5592960"/>
                <a:ext cx="331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RSA SecurID Card St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Система создания персональных смарт-кар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8008560" y="52311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Card Pr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3124080"/>
            <a:ext cx="495324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79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позволяет пользовател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Подготавливать смарт-карты для работы с </a:t>
            </a:r>
            <a:r>
              <a:rPr b="1" lang="en-US" sz="1800" spc="-1" strike="noStrike">
                <a:solidFill>
                  <a:srgbClr val="4d5981"/>
                </a:solidFill>
                <a:latin typeface="Arial"/>
              </a:rPr>
              <a:t>K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Регистрировать пользователей для серт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Генерировать пары ключей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Создавать идентификатор сотруд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Информация о сотрудн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еспечивать доступ в з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Магнитн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смарт-карты</a:t>
            </a:r>
            <a:br>
              <a:rPr sz="36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вые возмож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600" y="34286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арт-карты для доступа в здание с дистанционным опозна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H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Casi R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Mi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04920" y="1600200"/>
            <a:ext cx="2376000" cy="2440080"/>
            <a:chOff x="304920" y="1600200"/>
            <a:chExt cx="2376000" cy="2440080"/>
          </a:xfrm>
        </p:grpSpPr>
        <p:grpSp>
          <p:nvGrpSpPr>
            <p:cNvPr id="272" name=""/>
            <p:cNvGrpSpPr/>
            <p:nvPr/>
          </p:nvGrpSpPr>
          <p:grpSpPr>
            <a:xfrm>
              <a:off x="304920" y="1600200"/>
              <a:ext cx="1220760" cy="2440080"/>
              <a:chOff x="304920" y="1600200"/>
              <a:chExt cx="1220760" cy="2440080"/>
            </a:xfrm>
          </p:grpSpPr>
          <p:sp>
            <p:nvSpPr>
              <p:cNvPr id="273" name=""/>
              <p:cNvSpPr/>
              <p:nvPr/>
            </p:nvSpPr>
            <p:spPr>
              <a:xfrm>
                <a:off x="304920" y="1600200"/>
                <a:ext cx="1220760" cy="78120"/>
              </a:xfrm>
              <a:custGeom>
                <a:avLst/>
                <a:gdLst/>
                <a:ahLst/>
                <a:rect l="l" t="t" r="r" b="b"/>
                <a:pathLst>
                  <a:path w="1580" h="89">
                    <a:moveTo>
                      <a:pt x="0" y="88"/>
                    </a:moveTo>
                    <a:lnTo>
                      <a:pt x="0" y="0"/>
                    </a:lnTo>
                    <a:lnTo>
                      <a:pt x="1579" y="0"/>
                    </a:lnTo>
                    <a:lnTo>
                      <a:pt x="157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dbdbd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75280" y="1608840"/>
                <a:ext cx="50040" cy="2354760"/>
              </a:xfrm>
              <a:custGeom>
                <a:avLst/>
                <a:gdLst/>
                <a:ahLst/>
                <a:rect l="l" t="t" r="r" b="b"/>
                <a:pathLst>
                  <a:path w="65" h="2675">
                    <a:moveTo>
                      <a:pt x="0" y="2674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2674"/>
                    </a:lnTo>
                    <a:lnTo>
                      <a:pt x="0" y="2674"/>
                    </a:lnTo>
                  </a:path>
                </a:pathLst>
              </a:custGeom>
              <a:solidFill>
                <a:srgbClr val="dbdbd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50800" y="1635840"/>
                <a:ext cx="54000" cy="2327760"/>
              </a:xfrm>
              <a:custGeom>
                <a:avLst/>
                <a:gdLst/>
                <a:ahLst/>
                <a:rect l="l" t="t" r="r" b="b"/>
                <a:pathLst>
                  <a:path w="70" h="2644">
                    <a:moveTo>
                      <a:pt x="69" y="0"/>
                    </a:moveTo>
                    <a:lnTo>
                      <a:pt x="0" y="96"/>
                    </a:lnTo>
                    <a:lnTo>
                      <a:pt x="0" y="2643"/>
                    </a:lnTo>
                    <a:lnTo>
                      <a:pt x="69" y="26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a7a7a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4920" y="1632600"/>
                <a:ext cx="91080" cy="2407680"/>
              </a:xfrm>
              <a:custGeom>
                <a:avLst/>
                <a:gdLst/>
                <a:ahLst/>
                <a:rect l="l" t="t" r="r" b="b"/>
                <a:pathLst>
                  <a:path w="118" h="2735">
                    <a:moveTo>
                      <a:pt x="0" y="0"/>
                    </a:moveTo>
                    <a:lnTo>
                      <a:pt x="69" y="52"/>
                    </a:lnTo>
                    <a:lnTo>
                      <a:pt x="117" y="2734"/>
                    </a:lnTo>
                    <a:lnTo>
                      <a:pt x="0" y="27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7a7a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375840" y="1716840"/>
                <a:ext cx="855360" cy="2320560"/>
                <a:chOff x="375840" y="1716840"/>
                <a:chExt cx="855360" cy="23205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39640" y="2381400"/>
                  <a:ext cx="6768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15240" y="2381400"/>
                  <a:ext cx="68760" cy="154080"/>
                </a:xfrm>
                <a:custGeom>
                  <a:avLst/>
                  <a:gdLst/>
                  <a:ahLst/>
                  <a:rect l="l" t="t" r="r" b="b"/>
                  <a:pathLst>
                    <a:path w="89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8" y="174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1920" y="2381400"/>
                  <a:ext cx="6768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252525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824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8e8e8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4492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a7a7a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20520" y="2381400"/>
                  <a:ext cx="68400" cy="154080"/>
                </a:xfrm>
                <a:custGeom>
                  <a:avLst/>
                  <a:gdLst/>
                  <a:ahLst/>
                  <a:rect l="l" t="t" r="r" b="b"/>
                  <a:pathLst>
                    <a:path w="89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8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96840" y="2381400"/>
                  <a:ext cx="6804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cacac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07352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46040" y="1724760"/>
                  <a:ext cx="785160" cy="2312640"/>
                </a:xfrm>
                <a:custGeom>
                  <a:avLst/>
                  <a:gdLst/>
                  <a:ahLst/>
                  <a:rect l="l" t="t" r="r" b="b"/>
                  <a:pathLst>
                    <a:path w="1016" h="2627">
                      <a:moveTo>
                        <a:pt x="1" y="0"/>
                      </a:moveTo>
                      <a:lnTo>
                        <a:pt x="0" y="2626"/>
                      </a:lnTo>
                      <a:lnTo>
                        <a:pt x="1015" y="2365"/>
                      </a:lnTo>
                      <a:lnTo>
                        <a:pt x="1015" y="25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acac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103040" y="2812680"/>
                  <a:ext cx="9828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746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746290"/>
                    </a:path>
                  </a:pathLst>
                </a:custGeom>
                <a:solidFill>
                  <a:srgbClr val="9e9e9e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44800" y="2718360"/>
                  <a:ext cx="70920" cy="283320"/>
                </a:xfrm>
                <a:custGeom>
                  <a:avLst/>
                  <a:gdLst/>
                  <a:ahLst/>
                  <a:rect l="l" t="t" r="r" b="b"/>
                  <a:pathLst>
                    <a:path w="92" h="322">
                      <a:moveTo>
                        <a:pt x="0" y="321"/>
                      </a:moveTo>
                      <a:lnTo>
                        <a:pt x="0" y="0"/>
                      </a:lnTo>
                      <a:lnTo>
                        <a:pt x="91" y="0"/>
                      </a:lnTo>
                      <a:lnTo>
                        <a:pt x="91" y="321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ca7a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090800" y="2812680"/>
                  <a:ext cx="107280" cy="156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5" y="1"/>
                      </a:moveTo>
                      <a:arcTo wR="10800" hR="10800" stAng="-5449460" swAng="108989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5" y="1"/>
                      </a:moveTo>
                      <a:arcTo wR="10800" hR="10800" stAng="-5449460" swAng="10898921"/>
                    </a:path>
                  </a:pathLst>
                </a:custGeom>
                <a:solidFill>
                  <a:srgbClr val="824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150200" y="2726640"/>
                  <a:ext cx="58680" cy="268200"/>
                </a:xfrm>
                <a:custGeom>
                  <a:avLst/>
                  <a:gdLst/>
                  <a:ahLst/>
                  <a:rect l="l" t="t" r="r" b="b"/>
                  <a:pathLst>
                    <a:path w="76" h="305">
                      <a:moveTo>
                        <a:pt x="0" y="304"/>
                      </a:moveTo>
                      <a:lnTo>
                        <a:pt x="0" y="0"/>
                      </a:lnTo>
                      <a:lnTo>
                        <a:pt x="75" y="0"/>
                      </a:lnTo>
                      <a:lnTo>
                        <a:pt x="75" y="304"/>
                      </a:lnTo>
                      <a:lnTo>
                        <a:pt x="0" y="304"/>
                      </a:lnTo>
                    </a:path>
                  </a:pathLst>
                </a:custGeom>
                <a:solidFill>
                  <a:srgbClr val="fa98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099440" y="2812680"/>
                  <a:ext cx="9792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solidFill>
                  <a:srgbClr val="d78406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177920" y="2883240"/>
                  <a:ext cx="11520" cy="3924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32323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54520" y="2738880"/>
                  <a:ext cx="68760" cy="135360"/>
                </a:xfrm>
                <a:custGeom>
                  <a:avLst/>
                  <a:gdLst/>
                  <a:ahLst/>
                  <a:rect l="l" t="t" r="r" b="b"/>
                  <a:pathLst>
                    <a:path w="89" h="154">
                      <a:moveTo>
                        <a:pt x="88" y="77"/>
                      </a:moveTo>
                      <a:lnTo>
                        <a:pt x="88" y="77"/>
                      </a:lnTo>
                      <a:lnTo>
                        <a:pt x="87" y="64"/>
                      </a:lnTo>
                      <a:lnTo>
                        <a:pt x="84" y="51"/>
                      </a:lnTo>
                      <a:lnTo>
                        <a:pt x="81" y="39"/>
                      </a:lnTo>
                      <a:lnTo>
                        <a:pt x="78" y="28"/>
                      </a:lnTo>
                      <a:lnTo>
                        <a:pt x="72" y="19"/>
                      </a:lnTo>
                      <a:lnTo>
                        <a:pt x="65" y="12"/>
                      </a:lnTo>
                      <a:lnTo>
                        <a:pt x="58" y="6"/>
                      </a:lnTo>
                      <a:lnTo>
                        <a:pt x="51" y="2"/>
                      </a:lnTo>
                      <a:lnTo>
                        <a:pt x="44" y="0"/>
                      </a:lnTo>
                      <a:lnTo>
                        <a:pt x="38" y="2"/>
                      </a:lnTo>
                      <a:lnTo>
                        <a:pt x="31" y="6"/>
                      </a:lnTo>
                      <a:lnTo>
                        <a:pt x="23" y="12"/>
                      </a:lnTo>
                      <a:lnTo>
                        <a:pt x="17" y="19"/>
                      </a:lnTo>
                      <a:lnTo>
                        <a:pt x="11" y="28"/>
                      </a:lnTo>
                      <a:lnTo>
                        <a:pt x="7" y="39"/>
                      </a:lnTo>
                      <a:lnTo>
                        <a:pt x="4" y="51"/>
                      </a:lnTo>
                      <a:lnTo>
                        <a:pt x="1" y="64"/>
                      </a:lnTo>
                      <a:lnTo>
                        <a:pt x="0" y="77"/>
                      </a:lnTo>
                      <a:lnTo>
                        <a:pt x="1" y="90"/>
                      </a:lnTo>
                      <a:lnTo>
                        <a:pt x="4" y="102"/>
                      </a:lnTo>
                      <a:lnTo>
                        <a:pt x="7" y="115"/>
                      </a:lnTo>
                      <a:lnTo>
                        <a:pt x="11" y="125"/>
                      </a:lnTo>
                      <a:lnTo>
                        <a:pt x="17" y="134"/>
                      </a:lnTo>
                      <a:lnTo>
                        <a:pt x="22" y="142"/>
                      </a:lnTo>
                      <a:lnTo>
                        <a:pt x="31" y="147"/>
                      </a:lnTo>
                      <a:lnTo>
                        <a:pt x="38" y="151"/>
                      </a:lnTo>
                      <a:lnTo>
                        <a:pt x="44" y="153"/>
                      </a:lnTo>
                      <a:lnTo>
                        <a:pt x="51" y="151"/>
                      </a:lnTo>
                      <a:lnTo>
                        <a:pt x="58" y="147"/>
                      </a:lnTo>
                      <a:lnTo>
                        <a:pt x="65" y="142"/>
                      </a:lnTo>
                      <a:lnTo>
                        <a:pt x="72" y="134"/>
                      </a:lnTo>
                      <a:lnTo>
                        <a:pt x="78" y="125"/>
                      </a:lnTo>
                      <a:lnTo>
                        <a:pt x="81" y="115"/>
                      </a:lnTo>
                      <a:lnTo>
                        <a:pt x="84" y="102"/>
                      </a:lnTo>
                      <a:lnTo>
                        <a:pt x="87" y="90"/>
                      </a:lnTo>
                      <a:lnTo>
                        <a:pt x="88" y="77"/>
                      </a:lnTo>
                    </a:path>
                  </a:pathLst>
                </a:custGeom>
                <a:solidFill>
                  <a:srgbClr val="cf6d2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169280" y="2742120"/>
                  <a:ext cx="58680" cy="127440"/>
                </a:xfrm>
                <a:custGeom>
                  <a:avLst/>
                  <a:gdLst/>
                  <a:ahLst/>
                  <a:rect l="l" t="t" r="r" b="b"/>
                  <a:pathLst>
                    <a:path w="76" h="145">
                      <a:moveTo>
                        <a:pt x="75" y="72"/>
                      </a:moveTo>
                      <a:lnTo>
                        <a:pt x="75" y="72"/>
                      </a:lnTo>
                      <a:lnTo>
                        <a:pt x="74" y="61"/>
                      </a:lnTo>
                      <a:lnTo>
                        <a:pt x="72" y="48"/>
                      </a:lnTo>
                      <a:lnTo>
                        <a:pt x="69" y="36"/>
                      </a:lnTo>
                      <a:lnTo>
                        <a:pt x="65" y="26"/>
                      </a:lnTo>
                      <a:lnTo>
                        <a:pt x="61" y="16"/>
                      </a:lnTo>
                      <a:lnTo>
                        <a:pt x="55" y="10"/>
                      </a:lnTo>
                      <a:lnTo>
                        <a:pt x="49" y="6"/>
                      </a:lnTo>
                      <a:lnTo>
                        <a:pt x="43" y="1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6" y="6"/>
                      </a:lnTo>
                      <a:lnTo>
                        <a:pt x="20" y="10"/>
                      </a:lnTo>
                      <a:lnTo>
                        <a:pt x="14" y="16"/>
                      </a:lnTo>
                      <a:lnTo>
                        <a:pt x="10" y="26"/>
                      </a:lnTo>
                      <a:lnTo>
                        <a:pt x="6" y="36"/>
                      </a:lnTo>
                      <a:lnTo>
                        <a:pt x="3" y="48"/>
                      </a:lnTo>
                      <a:lnTo>
                        <a:pt x="1" y="61"/>
                      </a:lnTo>
                      <a:lnTo>
                        <a:pt x="0" y="72"/>
                      </a:lnTo>
                      <a:lnTo>
                        <a:pt x="1" y="84"/>
                      </a:lnTo>
                      <a:lnTo>
                        <a:pt x="3" y="96"/>
                      </a:lnTo>
                      <a:lnTo>
                        <a:pt x="6" y="107"/>
                      </a:lnTo>
                      <a:lnTo>
                        <a:pt x="10" y="118"/>
                      </a:lnTo>
                      <a:lnTo>
                        <a:pt x="14" y="128"/>
                      </a:lnTo>
                      <a:lnTo>
                        <a:pt x="19" y="135"/>
                      </a:lnTo>
                      <a:lnTo>
                        <a:pt x="26" y="139"/>
                      </a:lnTo>
                      <a:lnTo>
                        <a:pt x="32" y="143"/>
                      </a:lnTo>
                      <a:lnTo>
                        <a:pt x="38" y="144"/>
                      </a:lnTo>
                      <a:lnTo>
                        <a:pt x="43" y="143"/>
                      </a:lnTo>
                      <a:lnTo>
                        <a:pt x="49" y="139"/>
                      </a:lnTo>
                      <a:lnTo>
                        <a:pt x="55" y="135"/>
                      </a:lnTo>
                      <a:lnTo>
                        <a:pt x="61" y="128"/>
                      </a:lnTo>
                      <a:lnTo>
                        <a:pt x="65" y="118"/>
                      </a:lnTo>
                      <a:lnTo>
                        <a:pt x="69" y="109"/>
                      </a:lnTo>
                      <a:lnTo>
                        <a:pt x="72" y="96"/>
                      </a:lnTo>
                      <a:lnTo>
                        <a:pt x="74" y="84"/>
                      </a:lnTo>
                      <a:lnTo>
                        <a:pt x="75" y="72"/>
                      </a:lnTo>
                    </a:path>
                  </a:pathLst>
                </a:custGeom>
                <a:solidFill>
                  <a:srgbClr val="e0762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182600" y="276624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1" y="10"/>
                      </a:move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0" y="16"/>
                      </a:lnTo>
                      <a:lnTo>
                        <a:pt x="3" y="30"/>
                      </a:lnTo>
                      <a:lnTo>
                        <a:pt x="8" y="30"/>
                      </a:lnTo>
                      <a:lnTo>
                        <a:pt x="11" y="10"/>
                      </a:lnTo>
                    </a:path>
                  </a:pathLst>
                </a:custGeom>
                <a:solidFill>
                  <a:srgbClr val="fa8d4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86800" y="1940400"/>
                  <a:ext cx="541440" cy="879480"/>
                </a:xfrm>
                <a:custGeom>
                  <a:avLst/>
                  <a:gdLst/>
                  <a:ahLst/>
                  <a:rect l="l" t="t" r="r" b="b"/>
                  <a:pathLst>
                    <a:path w="701" h="999">
                      <a:moveTo>
                        <a:pt x="0" y="0"/>
                      </a:moveTo>
                      <a:lnTo>
                        <a:pt x="0" y="998"/>
                      </a:lnTo>
                      <a:lnTo>
                        <a:pt x="700" y="998"/>
                      </a:lnTo>
                      <a:lnTo>
                        <a:pt x="700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dada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15240" y="1940400"/>
                  <a:ext cx="513000" cy="879480"/>
                </a:xfrm>
                <a:custGeom>
                  <a:avLst/>
                  <a:gdLst/>
                  <a:ahLst/>
                  <a:rect l="l" t="t" r="r" b="b"/>
                  <a:pathLst>
                    <a:path w="664" h="999">
                      <a:moveTo>
                        <a:pt x="0" y="0"/>
                      </a:moveTo>
                      <a:lnTo>
                        <a:pt x="0" y="998"/>
                      </a:lnTo>
                      <a:lnTo>
                        <a:pt x="663" y="998"/>
                      </a:lnTo>
                      <a:lnTo>
                        <a:pt x="663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9920" y="2006280"/>
                  <a:ext cx="481320" cy="783360"/>
                </a:xfrm>
                <a:custGeom>
                  <a:avLst/>
                  <a:gdLst/>
                  <a:ahLst/>
                  <a:rect l="l" t="t" r="r" b="b"/>
                  <a:pathLst>
                    <a:path w="623" h="890">
                      <a:moveTo>
                        <a:pt x="1" y="0"/>
                      </a:moveTo>
                      <a:lnTo>
                        <a:pt x="0" y="889"/>
                      </a:lnTo>
                      <a:lnTo>
                        <a:pt x="622" y="889"/>
                      </a:lnTo>
                      <a:lnTo>
                        <a:pt x="622" y="13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86800" y="2972880"/>
                  <a:ext cx="541440" cy="878400"/>
                </a:xfrm>
                <a:custGeom>
                  <a:avLst/>
                  <a:gdLst/>
                  <a:ahLst/>
                  <a:rect l="l" t="t" r="r" b="b"/>
                  <a:pathLst>
                    <a:path w="701" h="998">
                      <a:moveTo>
                        <a:pt x="0" y="997"/>
                      </a:moveTo>
                      <a:lnTo>
                        <a:pt x="0" y="0"/>
                      </a:lnTo>
                      <a:lnTo>
                        <a:pt x="700" y="0"/>
                      </a:lnTo>
                      <a:lnTo>
                        <a:pt x="700" y="837"/>
                      </a:lnTo>
                      <a:lnTo>
                        <a:pt x="0" y="997"/>
                      </a:lnTo>
                    </a:path>
                  </a:pathLst>
                </a:custGeom>
                <a:solidFill>
                  <a:srgbClr val="adada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5240" y="2972880"/>
                  <a:ext cx="513000" cy="878400"/>
                </a:xfrm>
                <a:custGeom>
                  <a:avLst/>
                  <a:gdLst/>
                  <a:ahLst/>
                  <a:rect l="l" t="t" r="r" b="b"/>
                  <a:pathLst>
                    <a:path w="664" h="998">
                      <a:moveTo>
                        <a:pt x="0" y="997"/>
                      </a:moveTo>
                      <a:lnTo>
                        <a:pt x="0" y="0"/>
                      </a:lnTo>
                      <a:lnTo>
                        <a:pt x="663" y="0"/>
                      </a:lnTo>
                      <a:lnTo>
                        <a:pt x="663" y="837"/>
                      </a:lnTo>
                      <a:lnTo>
                        <a:pt x="0" y="997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9920" y="3003120"/>
                  <a:ext cx="481320" cy="784080"/>
                </a:xfrm>
                <a:custGeom>
                  <a:avLst/>
                  <a:gdLst/>
                  <a:ahLst/>
                  <a:rect l="l" t="t" r="r" b="b"/>
                  <a:pathLst>
                    <a:path w="623" h="891">
                      <a:moveTo>
                        <a:pt x="1" y="890"/>
                      </a:moveTo>
                      <a:lnTo>
                        <a:pt x="0" y="0"/>
                      </a:lnTo>
                      <a:lnTo>
                        <a:pt x="622" y="0"/>
                      </a:lnTo>
                      <a:lnTo>
                        <a:pt x="622" y="752"/>
                      </a:lnTo>
                      <a:lnTo>
                        <a:pt x="1" y="890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75840" y="1716840"/>
                  <a:ext cx="72720" cy="2320560"/>
                </a:xfrm>
                <a:custGeom>
                  <a:avLst/>
                  <a:gdLst/>
                  <a:ahLst/>
                  <a:rect l="l" t="t" r="r" b="b"/>
                  <a:pathLst>
                    <a:path w="94" h="2636">
                      <a:moveTo>
                        <a:pt x="0" y="9"/>
                      </a:moveTo>
                      <a:lnTo>
                        <a:pt x="93" y="0"/>
                      </a:lnTo>
                      <a:lnTo>
                        <a:pt x="92" y="2635"/>
                      </a:lnTo>
                      <a:lnTo>
                        <a:pt x="0" y="263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8f8f8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142280" y="2993040"/>
                  <a:ext cx="74160" cy="7920"/>
                </a:xfrm>
                <a:custGeom>
                  <a:avLst/>
                  <a:gdLst/>
                  <a:ahLst/>
                  <a:rect l="l" t="t" r="r" b="b"/>
                  <a:pathLst>
                    <a:path w="96" h="9">
                      <a:moveTo>
                        <a:pt x="10" y="0"/>
                      </a:moveTo>
                      <a:lnTo>
                        <a:pt x="85" y="0"/>
                      </a:lnTo>
                      <a:lnTo>
                        <a:pt x="95" y="8"/>
                      </a:lnTo>
                      <a:lnTo>
                        <a:pt x="0" y="8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853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143720" y="2718360"/>
                  <a:ext cx="72720" cy="6840"/>
                </a:xfrm>
                <a:custGeom>
                  <a:avLst/>
                  <a:gdLst/>
                  <a:ahLst/>
                  <a:rect l="l" t="t" r="r" b="b"/>
                  <a:pathLst>
                    <a:path w="94" h="8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83" y="7"/>
                      </a:lnTo>
                      <a:lnTo>
                        <a:pt x="1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853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04920" y="1632600"/>
                <a:ext cx="1220760" cy="46440"/>
              </a:xfrm>
              <a:custGeom>
                <a:avLst/>
                <a:gdLst/>
                <a:ahLst/>
                <a:rect l="l" t="t" r="r" b="b"/>
                <a:pathLst>
                  <a:path w="1580" h="53">
                    <a:moveTo>
                      <a:pt x="0" y="0"/>
                    </a:moveTo>
                    <a:lnTo>
                      <a:pt x="156" y="52"/>
                    </a:lnTo>
                    <a:lnTo>
                      <a:pt x="1424" y="52"/>
                    </a:lnTo>
                    <a:lnTo>
                      <a:pt x="157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e8e8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06" name=""/>
            <p:cNvGraphicFramePr/>
            <p:nvPr/>
          </p:nvGraphicFramePr>
          <p:xfrm>
            <a:off x="1310760" y="2272680"/>
            <a:ext cx="718200" cy="97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10760" y="2272680"/>
                      <a:ext cx="718200" cy="97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2040840" y="2407320"/>
              <a:ext cx="640080" cy="561600"/>
              <a:chOff x="2040840" y="2407320"/>
              <a:chExt cx="640080" cy="561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040840" y="2407320"/>
                <a:ext cx="92520" cy="561600"/>
              </a:xfrm>
              <a:custGeom>
                <a:avLst/>
                <a:gdLst/>
                <a:ahLst/>
                <a:rect l="l" t="t" r="r" b="b"/>
                <a:pathLst>
                  <a:path w="120" h="638">
                    <a:moveTo>
                      <a:pt x="60" y="0"/>
                    </a:moveTo>
                    <a:lnTo>
                      <a:pt x="54" y="15"/>
                    </a:lnTo>
                    <a:lnTo>
                      <a:pt x="45" y="39"/>
                    </a:lnTo>
                    <a:lnTo>
                      <a:pt x="37" y="60"/>
                    </a:lnTo>
                    <a:lnTo>
                      <a:pt x="30" y="82"/>
                    </a:lnTo>
                    <a:lnTo>
                      <a:pt x="23" y="105"/>
                    </a:lnTo>
                    <a:lnTo>
                      <a:pt x="18" y="130"/>
                    </a:lnTo>
                    <a:lnTo>
                      <a:pt x="13" y="155"/>
                    </a:lnTo>
                    <a:lnTo>
                      <a:pt x="8" y="185"/>
                    </a:lnTo>
                    <a:lnTo>
                      <a:pt x="4" y="209"/>
                    </a:lnTo>
                    <a:lnTo>
                      <a:pt x="3" y="238"/>
                    </a:lnTo>
                    <a:lnTo>
                      <a:pt x="1" y="262"/>
                    </a:lnTo>
                    <a:lnTo>
                      <a:pt x="0" y="293"/>
                    </a:lnTo>
                    <a:lnTo>
                      <a:pt x="0" y="324"/>
                    </a:lnTo>
                    <a:lnTo>
                      <a:pt x="2" y="356"/>
                    </a:lnTo>
                    <a:lnTo>
                      <a:pt x="3" y="381"/>
                    </a:lnTo>
                    <a:lnTo>
                      <a:pt x="5" y="403"/>
                    </a:lnTo>
                    <a:lnTo>
                      <a:pt x="9" y="431"/>
                    </a:lnTo>
                    <a:lnTo>
                      <a:pt x="13" y="456"/>
                    </a:lnTo>
                    <a:lnTo>
                      <a:pt x="19" y="484"/>
                    </a:lnTo>
                    <a:lnTo>
                      <a:pt x="26" y="511"/>
                    </a:lnTo>
                    <a:lnTo>
                      <a:pt x="34" y="536"/>
                    </a:lnTo>
                    <a:lnTo>
                      <a:pt x="41" y="560"/>
                    </a:lnTo>
                    <a:lnTo>
                      <a:pt x="51" y="584"/>
                    </a:lnTo>
                    <a:lnTo>
                      <a:pt x="62" y="607"/>
                    </a:lnTo>
                    <a:lnTo>
                      <a:pt x="74" y="631"/>
                    </a:lnTo>
                    <a:lnTo>
                      <a:pt x="77" y="637"/>
                    </a:lnTo>
                    <a:lnTo>
                      <a:pt x="119" y="622"/>
                    </a:lnTo>
                    <a:lnTo>
                      <a:pt x="107" y="604"/>
                    </a:lnTo>
                    <a:lnTo>
                      <a:pt x="95" y="582"/>
                    </a:lnTo>
                    <a:lnTo>
                      <a:pt x="85" y="559"/>
                    </a:lnTo>
                    <a:lnTo>
                      <a:pt x="77" y="534"/>
                    </a:lnTo>
                    <a:lnTo>
                      <a:pt x="67" y="505"/>
                    </a:lnTo>
                    <a:lnTo>
                      <a:pt x="61" y="478"/>
                    </a:lnTo>
                    <a:lnTo>
                      <a:pt x="56" y="453"/>
                    </a:lnTo>
                    <a:lnTo>
                      <a:pt x="51" y="422"/>
                    </a:lnTo>
                    <a:lnTo>
                      <a:pt x="48" y="395"/>
                    </a:lnTo>
                    <a:lnTo>
                      <a:pt x="45" y="368"/>
                    </a:lnTo>
                    <a:lnTo>
                      <a:pt x="44" y="340"/>
                    </a:lnTo>
                    <a:lnTo>
                      <a:pt x="42" y="318"/>
                    </a:lnTo>
                    <a:lnTo>
                      <a:pt x="43" y="289"/>
                    </a:lnTo>
                    <a:lnTo>
                      <a:pt x="44" y="258"/>
                    </a:lnTo>
                    <a:lnTo>
                      <a:pt x="46" y="231"/>
                    </a:lnTo>
                    <a:lnTo>
                      <a:pt x="49" y="202"/>
                    </a:lnTo>
                    <a:lnTo>
                      <a:pt x="54" y="172"/>
                    </a:lnTo>
                    <a:lnTo>
                      <a:pt x="59" y="145"/>
                    </a:lnTo>
                    <a:lnTo>
                      <a:pt x="65" y="117"/>
                    </a:lnTo>
                    <a:lnTo>
                      <a:pt x="73" y="91"/>
                    </a:lnTo>
                    <a:lnTo>
                      <a:pt x="82" y="63"/>
                    </a:lnTo>
                    <a:lnTo>
                      <a:pt x="92" y="39"/>
                    </a:lnTo>
                    <a:lnTo>
                      <a:pt x="103" y="17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25800" y="2439000"/>
                <a:ext cx="77760" cy="500040"/>
              </a:xfrm>
              <a:custGeom>
                <a:avLst/>
                <a:gdLst/>
                <a:ahLst/>
                <a:rect l="l" t="t" r="r" b="b"/>
                <a:pathLst>
                  <a:path w="101" h="568">
                    <a:moveTo>
                      <a:pt x="46" y="0"/>
                    </a:moveTo>
                    <a:lnTo>
                      <a:pt x="37" y="24"/>
                    </a:lnTo>
                    <a:lnTo>
                      <a:pt x="30" y="46"/>
                    </a:lnTo>
                    <a:lnTo>
                      <a:pt x="23" y="68"/>
                    </a:lnTo>
                    <a:lnTo>
                      <a:pt x="18" y="94"/>
                    </a:lnTo>
                    <a:lnTo>
                      <a:pt x="13" y="119"/>
                    </a:lnTo>
                    <a:lnTo>
                      <a:pt x="8" y="149"/>
                    </a:lnTo>
                    <a:lnTo>
                      <a:pt x="4" y="173"/>
                    </a:lnTo>
                    <a:lnTo>
                      <a:pt x="3" y="202"/>
                    </a:lnTo>
                    <a:lnTo>
                      <a:pt x="1" y="226"/>
                    </a:lnTo>
                    <a:lnTo>
                      <a:pt x="0" y="257"/>
                    </a:lnTo>
                    <a:lnTo>
                      <a:pt x="0" y="288"/>
                    </a:lnTo>
                    <a:lnTo>
                      <a:pt x="2" y="320"/>
                    </a:lnTo>
                    <a:lnTo>
                      <a:pt x="3" y="345"/>
                    </a:lnTo>
                    <a:lnTo>
                      <a:pt x="5" y="367"/>
                    </a:lnTo>
                    <a:lnTo>
                      <a:pt x="9" y="394"/>
                    </a:lnTo>
                    <a:lnTo>
                      <a:pt x="13" y="420"/>
                    </a:lnTo>
                    <a:lnTo>
                      <a:pt x="19" y="448"/>
                    </a:lnTo>
                    <a:lnTo>
                      <a:pt x="26" y="475"/>
                    </a:lnTo>
                    <a:lnTo>
                      <a:pt x="34" y="500"/>
                    </a:lnTo>
                    <a:lnTo>
                      <a:pt x="41" y="523"/>
                    </a:lnTo>
                    <a:lnTo>
                      <a:pt x="51" y="548"/>
                    </a:lnTo>
                    <a:lnTo>
                      <a:pt x="60" y="567"/>
                    </a:lnTo>
                    <a:lnTo>
                      <a:pt x="100" y="551"/>
                    </a:lnTo>
                    <a:lnTo>
                      <a:pt x="95" y="545"/>
                    </a:lnTo>
                    <a:lnTo>
                      <a:pt x="85" y="522"/>
                    </a:lnTo>
                    <a:lnTo>
                      <a:pt x="77" y="497"/>
                    </a:lnTo>
                    <a:lnTo>
                      <a:pt x="67" y="469"/>
                    </a:lnTo>
                    <a:lnTo>
                      <a:pt x="61" y="442"/>
                    </a:lnTo>
                    <a:lnTo>
                      <a:pt x="56" y="416"/>
                    </a:lnTo>
                    <a:lnTo>
                      <a:pt x="51" y="386"/>
                    </a:lnTo>
                    <a:lnTo>
                      <a:pt x="48" y="358"/>
                    </a:lnTo>
                    <a:lnTo>
                      <a:pt x="45" y="331"/>
                    </a:lnTo>
                    <a:lnTo>
                      <a:pt x="43" y="303"/>
                    </a:lnTo>
                    <a:lnTo>
                      <a:pt x="42" y="282"/>
                    </a:lnTo>
                    <a:lnTo>
                      <a:pt x="43" y="253"/>
                    </a:lnTo>
                    <a:lnTo>
                      <a:pt x="44" y="222"/>
                    </a:lnTo>
                    <a:lnTo>
                      <a:pt x="46" y="194"/>
                    </a:lnTo>
                    <a:lnTo>
                      <a:pt x="49" y="166"/>
                    </a:lnTo>
                    <a:lnTo>
                      <a:pt x="54" y="136"/>
                    </a:lnTo>
                    <a:lnTo>
                      <a:pt x="59" y="109"/>
                    </a:lnTo>
                    <a:lnTo>
                      <a:pt x="65" y="81"/>
                    </a:lnTo>
                    <a:lnTo>
                      <a:pt x="73" y="55"/>
                    </a:lnTo>
                    <a:lnTo>
                      <a:pt x="82" y="27"/>
                    </a:lnTo>
                    <a:lnTo>
                      <a:pt x="89" y="14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11480" y="2468160"/>
                <a:ext cx="65520" cy="438840"/>
              </a:xfrm>
              <a:custGeom>
                <a:avLst/>
                <a:gdLst/>
                <a:ahLst/>
                <a:rect l="l" t="t" r="r" b="b"/>
                <a:pathLst>
                  <a:path w="85" h="499">
                    <a:moveTo>
                      <a:pt x="30" y="13"/>
                    </a:moveTo>
                    <a:lnTo>
                      <a:pt x="23" y="36"/>
                    </a:lnTo>
                    <a:lnTo>
                      <a:pt x="18" y="61"/>
                    </a:lnTo>
                    <a:lnTo>
                      <a:pt x="12" y="86"/>
                    </a:lnTo>
                    <a:lnTo>
                      <a:pt x="8" y="116"/>
                    </a:lnTo>
                    <a:lnTo>
                      <a:pt x="4" y="140"/>
                    </a:lnTo>
                    <a:lnTo>
                      <a:pt x="3" y="169"/>
                    </a:lnTo>
                    <a:lnTo>
                      <a:pt x="1" y="193"/>
                    </a:lnTo>
                    <a:lnTo>
                      <a:pt x="0" y="224"/>
                    </a:lnTo>
                    <a:lnTo>
                      <a:pt x="0" y="259"/>
                    </a:lnTo>
                    <a:lnTo>
                      <a:pt x="2" y="287"/>
                    </a:lnTo>
                    <a:lnTo>
                      <a:pt x="3" y="312"/>
                    </a:lnTo>
                    <a:lnTo>
                      <a:pt x="5" y="334"/>
                    </a:lnTo>
                    <a:lnTo>
                      <a:pt x="9" y="362"/>
                    </a:lnTo>
                    <a:lnTo>
                      <a:pt x="13" y="387"/>
                    </a:lnTo>
                    <a:lnTo>
                      <a:pt x="19" y="415"/>
                    </a:lnTo>
                    <a:lnTo>
                      <a:pt x="26" y="442"/>
                    </a:lnTo>
                    <a:lnTo>
                      <a:pt x="33" y="467"/>
                    </a:lnTo>
                    <a:lnTo>
                      <a:pt x="40" y="491"/>
                    </a:lnTo>
                    <a:lnTo>
                      <a:pt x="44" y="498"/>
                    </a:lnTo>
                    <a:lnTo>
                      <a:pt x="84" y="483"/>
                    </a:lnTo>
                    <a:lnTo>
                      <a:pt x="76" y="464"/>
                    </a:lnTo>
                    <a:lnTo>
                      <a:pt x="66" y="436"/>
                    </a:lnTo>
                    <a:lnTo>
                      <a:pt x="60" y="409"/>
                    </a:lnTo>
                    <a:lnTo>
                      <a:pt x="55" y="384"/>
                    </a:lnTo>
                    <a:lnTo>
                      <a:pt x="50" y="353"/>
                    </a:lnTo>
                    <a:lnTo>
                      <a:pt x="47" y="326"/>
                    </a:lnTo>
                    <a:lnTo>
                      <a:pt x="44" y="299"/>
                    </a:lnTo>
                    <a:lnTo>
                      <a:pt x="43" y="271"/>
                    </a:lnTo>
                    <a:lnTo>
                      <a:pt x="42" y="249"/>
                    </a:lnTo>
                    <a:lnTo>
                      <a:pt x="42" y="220"/>
                    </a:lnTo>
                    <a:lnTo>
                      <a:pt x="43" y="190"/>
                    </a:lnTo>
                    <a:lnTo>
                      <a:pt x="46" y="162"/>
                    </a:lnTo>
                    <a:lnTo>
                      <a:pt x="48" y="133"/>
                    </a:lnTo>
                    <a:lnTo>
                      <a:pt x="53" y="103"/>
                    </a:lnTo>
                    <a:lnTo>
                      <a:pt x="58" y="76"/>
                    </a:lnTo>
                    <a:lnTo>
                      <a:pt x="64" y="48"/>
                    </a:lnTo>
                    <a:lnTo>
                      <a:pt x="72" y="23"/>
                    </a:lnTo>
                    <a:lnTo>
                      <a:pt x="74" y="16"/>
                    </a:lnTo>
                    <a:lnTo>
                      <a:pt x="34" y="0"/>
                    </a:lnTo>
                    <a:lnTo>
                      <a:pt x="30" y="13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7800" y="2498040"/>
                <a:ext cx="57960" cy="380160"/>
              </a:xfrm>
              <a:custGeom>
                <a:avLst/>
                <a:gdLst/>
                <a:ahLst/>
                <a:rect l="l" t="t" r="r" b="b"/>
                <a:pathLst>
                  <a:path w="75" h="432">
                    <a:moveTo>
                      <a:pt x="23" y="0"/>
                    </a:moveTo>
                    <a:lnTo>
                      <a:pt x="18" y="25"/>
                    </a:lnTo>
                    <a:lnTo>
                      <a:pt x="12" y="51"/>
                    </a:lnTo>
                    <a:lnTo>
                      <a:pt x="8" y="80"/>
                    </a:lnTo>
                    <a:lnTo>
                      <a:pt x="4" y="105"/>
                    </a:lnTo>
                    <a:lnTo>
                      <a:pt x="3" y="133"/>
                    </a:lnTo>
                    <a:lnTo>
                      <a:pt x="1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2" y="251"/>
                    </a:lnTo>
                    <a:lnTo>
                      <a:pt x="3" y="276"/>
                    </a:lnTo>
                    <a:lnTo>
                      <a:pt x="5" y="298"/>
                    </a:lnTo>
                    <a:lnTo>
                      <a:pt x="9" y="326"/>
                    </a:lnTo>
                    <a:lnTo>
                      <a:pt x="13" y="351"/>
                    </a:lnTo>
                    <a:lnTo>
                      <a:pt x="19" y="379"/>
                    </a:lnTo>
                    <a:lnTo>
                      <a:pt x="26" y="406"/>
                    </a:lnTo>
                    <a:lnTo>
                      <a:pt x="33" y="431"/>
                    </a:lnTo>
                    <a:lnTo>
                      <a:pt x="74" y="416"/>
                    </a:lnTo>
                    <a:lnTo>
                      <a:pt x="67" y="400"/>
                    </a:lnTo>
                    <a:lnTo>
                      <a:pt x="61" y="373"/>
                    </a:lnTo>
                    <a:lnTo>
                      <a:pt x="55" y="347"/>
                    </a:lnTo>
                    <a:lnTo>
                      <a:pt x="51" y="317"/>
                    </a:lnTo>
                    <a:lnTo>
                      <a:pt x="47" y="290"/>
                    </a:lnTo>
                    <a:lnTo>
                      <a:pt x="45" y="263"/>
                    </a:lnTo>
                    <a:lnTo>
                      <a:pt x="43" y="235"/>
                    </a:lnTo>
                    <a:lnTo>
                      <a:pt x="42" y="213"/>
                    </a:lnTo>
                    <a:lnTo>
                      <a:pt x="43" y="184"/>
                    </a:lnTo>
                    <a:lnTo>
                      <a:pt x="44" y="154"/>
                    </a:lnTo>
                    <a:lnTo>
                      <a:pt x="46" y="126"/>
                    </a:lnTo>
                    <a:lnTo>
                      <a:pt x="49" y="97"/>
                    </a:lnTo>
                    <a:lnTo>
                      <a:pt x="53" y="68"/>
                    </a:lnTo>
                    <a:lnTo>
                      <a:pt x="59" y="40"/>
                    </a:lnTo>
                    <a:lnTo>
                      <a:pt x="66" y="15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65200" y="2526840"/>
                <a:ext cx="48600" cy="322200"/>
              </a:xfrm>
              <a:custGeom>
                <a:avLst/>
                <a:gdLst/>
                <a:ahLst/>
                <a:rect l="l" t="t" r="r" b="b"/>
                <a:pathLst>
                  <a:path w="63" h="366">
                    <a:moveTo>
                      <a:pt x="18" y="0"/>
                    </a:moveTo>
                    <a:lnTo>
                      <a:pt x="12" y="20"/>
                    </a:lnTo>
                    <a:lnTo>
                      <a:pt x="8" y="49"/>
                    </a:lnTo>
                    <a:lnTo>
                      <a:pt x="4" y="74"/>
                    </a:lnTo>
                    <a:lnTo>
                      <a:pt x="3" y="102"/>
                    </a:lnTo>
                    <a:lnTo>
                      <a:pt x="1" y="126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2" y="220"/>
                    </a:lnTo>
                    <a:lnTo>
                      <a:pt x="3" y="245"/>
                    </a:lnTo>
                    <a:lnTo>
                      <a:pt x="5" y="267"/>
                    </a:lnTo>
                    <a:lnTo>
                      <a:pt x="9" y="295"/>
                    </a:lnTo>
                    <a:lnTo>
                      <a:pt x="13" y="320"/>
                    </a:lnTo>
                    <a:lnTo>
                      <a:pt x="19" y="348"/>
                    </a:lnTo>
                    <a:lnTo>
                      <a:pt x="21" y="365"/>
                    </a:lnTo>
                    <a:lnTo>
                      <a:pt x="62" y="350"/>
                    </a:lnTo>
                    <a:lnTo>
                      <a:pt x="59" y="342"/>
                    </a:lnTo>
                    <a:lnTo>
                      <a:pt x="54" y="316"/>
                    </a:lnTo>
                    <a:lnTo>
                      <a:pt x="50" y="286"/>
                    </a:lnTo>
                    <a:lnTo>
                      <a:pt x="46" y="259"/>
                    </a:lnTo>
                    <a:lnTo>
                      <a:pt x="44" y="231"/>
                    </a:lnTo>
                    <a:lnTo>
                      <a:pt x="42" y="204"/>
                    </a:lnTo>
                    <a:lnTo>
                      <a:pt x="41" y="182"/>
                    </a:lnTo>
                    <a:lnTo>
                      <a:pt x="42" y="153"/>
                    </a:lnTo>
                    <a:lnTo>
                      <a:pt x="43" y="123"/>
                    </a:lnTo>
                    <a:lnTo>
                      <a:pt x="45" y="95"/>
                    </a:lnTo>
                    <a:lnTo>
                      <a:pt x="48" y="66"/>
                    </a:lnTo>
                    <a:lnTo>
                      <a:pt x="52" y="37"/>
                    </a:lnTo>
                    <a:lnTo>
                      <a:pt x="60" y="1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3240" y="2548080"/>
                <a:ext cx="46800" cy="275400"/>
              </a:xfrm>
              <a:custGeom>
                <a:avLst/>
                <a:gdLst/>
                <a:ahLst/>
                <a:rect l="l" t="t" r="r" b="b"/>
                <a:pathLst>
                  <a:path w="61" h="313">
                    <a:moveTo>
                      <a:pt x="11" y="0"/>
                    </a:moveTo>
                    <a:lnTo>
                      <a:pt x="7" y="18"/>
                    </a:lnTo>
                    <a:lnTo>
                      <a:pt x="4" y="39"/>
                    </a:lnTo>
                    <a:lnTo>
                      <a:pt x="1" y="69"/>
                    </a:lnTo>
                    <a:lnTo>
                      <a:pt x="1" y="92"/>
                    </a:lnTo>
                    <a:lnTo>
                      <a:pt x="0" y="122"/>
                    </a:lnTo>
                    <a:lnTo>
                      <a:pt x="0" y="154"/>
                    </a:lnTo>
                    <a:lnTo>
                      <a:pt x="2" y="185"/>
                    </a:lnTo>
                    <a:lnTo>
                      <a:pt x="3" y="210"/>
                    </a:lnTo>
                    <a:lnTo>
                      <a:pt x="5" y="233"/>
                    </a:lnTo>
                    <a:lnTo>
                      <a:pt x="9" y="260"/>
                    </a:lnTo>
                    <a:lnTo>
                      <a:pt x="13" y="286"/>
                    </a:lnTo>
                    <a:lnTo>
                      <a:pt x="19" y="312"/>
                    </a:lnTo>
                    <a:lnTo>
                      <a:pt x="60" y="296"/>
                    </a:lnTo>
                    <a:lnTo>
                      <a:pt x="55" y="282"/>
                    </a:lnTo>
                    <a:lnTo>
                      <a:pt x="50" y="252"/>
                    </a:lnTo>
                    <a:lnTo>
                      <a:pt x="47" y="224"/>
                    </a:lnTo>
                    <a:lnTo>
                      <a:pt x="44" y="197"/>
                    </a:lnTo>
                    <a:lnTo>
                      <a:pt x="43" y="169"/>
                    </a:lnTo>
                    <a:lnTo>
                      <a:pt x="41" y="147"/>
                    </a:lnTo>
                    <a:lnTo>
                      <a:pt x="42" y="118"/>
                    </a:lnTo>
                    <a:lnTo>
                      <a:pt x="42" y="88"/>
                    </a:lnTo>
                    <a:lnTo>
                      <a:pt x="44" y="59"/>
                    </a:lnTo>
                    <a:lnTo>
                      <a:pt x="48" y="31"/>
                    </a:lnTo>
                    <a:lnTo>
                      <a:pt x="53" y="1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07400" y="2580480"/>
                <a:ext cx="39960" cy="213840"/>
              </a:xfrm>
              <a:custGeom>
                <a:avLst/>
                <a:gdLst/>
                <a:ahLst/>
                <a:rect l="l" t="t" r="r" b="b"/>
                <a:pathLst>
                  <a:path w="52" h="243">
                    <a:moveTo>
                      <a:pt x="8" y="0"/>
                    </a:moveTo>
                    <a:lnTo>
                      <a:pt x="4" y="21"/>
                    </a:lnTo>
                    <a:lnTo>
                      <a:pt x="3" y="44"/>
                    </a:lnTo>
                    <a:lnTo>
                      <a:pt x="1" y="68"/>
                    </a:lnTo>
                    <a:lnTo>
                      <a:pt x="0" y="98"/>
                    </a:lnTo>
                    <a:lnTo>
                      <a:pt x="0" y="129"/>
                    </a:lnTo>
                    <a:lnTo>
                      <a:pt x="2" y="161"/>
                    </a:lnTo>
                    <a:lnTo>
                      <a:pt x="3" y="186"/>
                    </a:lnTo>
                    <a:lnTo>
                      <a:pt x="5" y="208"/>
                    </a:lnTo>
                    <a:lnTo>
                      <a:pt x="6" y="230"/>
                    </a:lnTo>
                    <a:lnTo>
                      <a:pt x="7" y="242"/>
                    </a:lnTo>
                    <a:lnTo>
                      <a:pt x="51" y="224"/>
                    </a:lnTo>
                    <a:lnTo>
                      <a:pt x="47" y="199"/>
                    </a:lnTo>
                    <a:lnTo>
                      <a:pt x="44" y="172"/>
                    </a:lnTo>
                    <a:lnTo>
                      <a:pt x="43" y="145"/>
                    </a:lnTo>
                    <a:lnTo>
                      <a:pt x="42" y="123"/>
                    </a:lnTo>
                    <a:lnTo>
                      <a:pt x="41" y="91"/>
                    </a:lnTo>
                    <a:lnTo>
                      <a:pt x="43" y="64"/>
                    </a:lnTo>
                    <a:lnTo>
                      <a:pt x="46" y="36"/>
                    </a:lnTo>
                    <a:lnTo>
                      <a:pt x="49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79400" y="2608920"/>
                <a:ext cx="36720" cy="154800"/>
              </a:xfrm>
              <a:custGeom>
                <a:avLst/>
                <a:gdLst/>
                <a:ahLst/>
                <a:rect l="l" t="t" r="r" b="b"/>
                <a:pathLst>
                  <a:path w="48" h="176">
                    <a:moveTo>
                      <a:pt x="5" y="0"/>
                    </a:moveTo>
                    <a:lnTo>
                      <a:pt x="1" y="32"/>
                    </a:lnTo>
                    <a:lnTo>
                      <a:pt x="0" y="62"/>
                    </a:lnTo>
                    <a:lnTo>
                      <a:pt x="0" y="93"/>
                    </a:lnTo>
                    <a:lnTo>
                      <a:pt x="2" y="124"/>
                    </a:lnTo>
                    <a:lnTo>
                      <a:pt x="3" y="149"/>
                    </a:lnTo>
                    <a:lnTo>
                      <a:pt x="8" y="175"/>
                    </a:lnTo>
                    <a:lnTo>
                      <a:pt x="47" y="160"/>
                    </a:lnTo>
                    <a:lnTo>
                      <a:pt x="43" y="136"/>
                    </a:lnTo>
                    <a:lnTo>
                      <a:pt x="42" y="108"/>
                    </a:lnTo>
                    <a:lnTo>
                      <a:pt x="41" y="87"/>
                    </a:lnTo>
                    <a:lnTo>
                      <a:pt x="42" y="55"/>
                    </a:lnTo>
                    <a:lnTo>
                      <a:pt x="43" y="29"/>
                    </a:lnTo>
                    <a:lnTo>
                      <a:pt x="45" y="1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45640" y="2632680"/>
                <a:ext cx="35280" cy="103680"/>
              </a:xfrm>
              <a:custGeom>
                <a:avLst/>
                <a:gdLst/>
                <a:ahLst/>
                <a:rect l="l" t="t" r="r" b="b"/>
                <a:pathLst>
                  <a:path w="46" h="118">
                    <a:moveTo>
                      <a:pt x="1" y="17"/>
                    </a:moveTo>
                    <a:lnTo>
                      <a:pt x="0" y="47"/>
                    </a:lnTo>
                    <a:lnTo>
                      <a:pt x="0" y="76"/>
                    </a:lnTo>
                    <a:lnTo>
                      <a:pt x="3" y="102"/>
                    </a:lnTo>
                    <a:lnTo>
                      <a:pt x="5" y="117"/>
                    </a:lnTo>
                    <a:lnTo>
                      <a:pt x="45" y="103"/>
                    </a:lnTo>
                    <a:lnTo>
                      <a:pt x="42" y="72"/>
                    </a:lnTo>
                    <a:lnTo>
                      <a:pt x="42" y="43"/>
                    </a:lnTo>
                    <a:lnTo>
                      <a:pt x="42" y="15"/>
                    </a:lnTo>
                    <a:lnTo>
                      <a:pt x="3" y="0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8" name="smartcard_3100_ID" descr=""/>
          <p:cNvPicPr/>
          <p:nvPr/>
        </p:nvPicPr>
        <p:blipFill>
          <a:blip r:embed="rId3"/>
          <a:stretch/>
        </p:blipFill>
        <p:spPr>
          <a:xfrm>
            <a:off x="2819520" y="2362320"/>
            <a:ext cx="11001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RSA ACE/Ser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990360" y="3657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вигатель» RSA Secu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39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30040" y="1456920"/>
            <a:ext cx="7785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дро аутентификации, пользователь, менеджер политик - ядро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ительность операторского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Десятки тысяч пользователей на серв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яемость и конт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труктурированное администрирование, разделение обязанностей по администрир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от взл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верные 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Windows NT, 2000; Sun Solaris; HP/UX; IBM A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ное админист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Windows NT, 95, 9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колы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ACACS, TACAC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евые прото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140360" y="3057480"/>
            <a:ext cx="4512960" cy="2866680"/>
            <a:chOff x="4140360" y="3057480"/>
            <a:chExt cx="4512960" cy="2866680"/>
          </a:xfrm>
        </p:grpSpPr>
        <p:sp>
          <p:nvSpPr>
            <p:cNvPr id="326" name=""/>
            <p:cNvSpPr/>
            <p:nvPr/>
          </p:nvSpPr>
          <p:spPr>
            <a:xfrm>
              <a:off x="6905520" y="4027320"/>
              <a:ext cx="567000" cy="0"/>
            </a:xfrm>
            <a:prstGeom prst="line">
              <a:avLst/>
            </a:prstGeom>
            <a:ln w="93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6520" y="3057480"/>
              <a:ext cx="151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RSA ACE/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72520" y="3429000"/>
              <a:ext cx="0" cy="23940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72520" y="376092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72520" y="535788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72520" y="462600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19400" y="4826160"/>
              <a:ext cx="2552760" cy="0"/>
            </a:xfrm>
            <a:prstGeom prst="line">
              <a:avLst/>
            </a:prstGeom>
            <a:ln w="93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2680" y="3693960"/>
              <a:ext cx="1276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Профили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40360" y="5357880"/>
              <a:ext cx="10634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ru-RU" sz="1200" spc="-1" strike="noStrike">
                  <a:solidFill>
                    <a:srgbClr val="003f66"/>
                  </a:solidFill>
                  <a:latin typeface="Arial"/>
                </a:rPr>
                <a:t>Устройства</a:t>
              </a: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databasedrum" descr=""/>
            <p:cNvPicPr/>
            <p:nvPr/>
          </p:nvPicPr>
          <p:blipFill>
            <a:blip r:embed="rId1"/>
            <a:stretch/>
          </p:blipFill>
          <p:spPr>
            <a:xfrm>
              <a:off x="7827840" y="4227480"/>
              <a:ext cx="82548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databasedrum" descr=""/>
            <p:cNvPicPr/>
            <p:nvPr/>
          </p:nvPicPr>
          <p:blipFill>
            <a:blip r:embed="rId2"/>
            <a:stretch/>
          </p:blipFill>
          <p:spPr>
            <a:xfrm>
              <a:off x="7827840" y="3429000"/>
              <a:ext cx="825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905520" y="4027320"/>
              <a:ext cx="611280" cy="180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19760" y="4826160"/>
              <a:ext cx="2590560" cy="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72520" y="4027320"/>
              <a:ext cx="0" cy="79884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Managerbox" descr=""/>
            <p:cNvPicPr/>
            <p:nvPr/>
          </p:nvPicPr>
          <p:blipFill>
            <a:blip r:embed="rId3"/>
            <a:stretch/>
          </p:blipFill>
          <p:spPr>
            <a:xfrm>
              <a:off x="6229440" y="3562200"/>
              <a:ext cx="95724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RAS-Firewall%20box-green" descr=""/>
            <p:cNvPicPr/>
            <p:nvPr/>
          </p:nvPicPr>
          <p:blipFill>
            <a:blip r:embed="rId4"/>
            <a:stretch/>
          </p:blipFill>
          <p:spPr>
            <a:xfrm>
              <a:off x="4211640" y="4160880"/>
              <a:ext cx="10666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databasedrum" descr=""/>
            <p:cNvPicPr/>
            <p:nvPr/>
          </p:nvPicPr>
          <p:blipFill>
            <a:blip r:embed="rId5"/>
            <a:stretch/>
          </p:blipFill>
          <p:spPr>
            <a:xfrm>
              <a:off x="7827840" y="4959360"/>
              <a:ext cx="82548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592200">
            <a:off x="2169720" y="553536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icies&amp;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296600">
            <a:off x="5182200" y="49521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B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92200">
            <a:off x="2590560" y="4724280"/>
            <a:ext cx="30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ication &amp;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296600">
            <a:off x="4801320" y="434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411200"/>
          <a:ext cx="5562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11200"/>
                    <a:ext cx="5562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563400">
            <a:off x="2387160" y="59180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ки и 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419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63400">
            <a:off x="2692440" y="4863600"/>
            <a:ext cx="23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я и аутентифик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63400">
            <a:off x="2895120" y="40003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63400">
            <a:off x="3174480" y="229824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уд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63400">
            <a:off x="2768400" y="2895480"/>
            <a:ext cx="294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фиден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а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756600">
            <a:off x="4315680" y="4147920"/>
            <a:ext cx="3391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A Ke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ы информационной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и обеспечивает соблюдение политик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ированное админист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Распределенное администрирование с разграничением прав администраторов и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зация доступа пользователя к ресурсам: </a:t>
            </a: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иложениям и файл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ение журналов соб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тандарт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Экспорт в файл с запятой-разделите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частные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RSA ACE/Ag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 к функциональной совмест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Ag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artner%2520program" descr=""/>
          <p:cNvPicPr/>
          <p:nvPr/>
        </p:nvPicPr>
        <p:blipFill>
          <a:blip r:embed="rId1"/>
          <a:stretch/>
        </p:blipFill>
        <p:spPr>
          <a:xfrm>
            <a:off x="6008760" y="3200400"/>
            <a:ext cx="3135240" cy="2743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53240" cy="4896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адресует доступ на сред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ное решение внедренное в 135 сетевых продуктов свыше 65 произв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Internet/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emote Access Servers (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VP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использ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факторную аутентифик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SA SecurID на большин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фор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991-1E8C-43E6-B174-175C27977F91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ty Enables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ings_Full-01" descr=""/>
          <p:cNvPicPr/>
          <p:nvPr/>
        </p:nvPicPr>
        <p:blipFill>
          <a:blip r:embed="rId1"/>
          <a:stretch/>
        </p:blipFill>
        <p:spPr>
          <a:xfrm>
            <a:off x="1619280" y="1438200"/>
            <a:ext cx="53053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619280" y="1438200"/>
            <a:ext cx="5292720" cy="5097600"/>
            <a:chOff x="1619280" y="1438200"/>
            <a:chExt cx="5292720" cy="5097600"/>
          </a:xfrm>
        </p:grpSpPr>
        <p:pic>
          <p:nvPicPr>
            <p:cNvPr id="353" name="Ghosted_Rings-01" descr=""/>
            <p:cNvPicPr/>
            <p:nvPr/>
          </p:nvPicPr>
          <p:blipFill>
            <a:blip r:embed="rId2">
              <a:lum bright="4000"/>
            </a:blip>
            <a:stretch/>
          </p:blipFill>
          <p:spPr>
            <a:xfrm>
              <a:off x="1619280" y="1438200"/>
              <a:ext cx="52927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926080" y="2430360"/>
              <a:ext cx="2821680" cy="1245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Инфраструкту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открытых ключе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P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29520" y="4602240"/>
              <a:ext cx="258120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Систем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аутентифика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8640" y="4599000"/>
              <a:ext cx="226692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Технологии шиф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619280" y="1438200"/>
            <a:ext cx="5292720" cy="5097600"/>
            <a:chOff x="1619280" y="1438200"/>
            <a:chExt cx="5292720" cy="5097600"/>
          </a:xfrm>
        </p:grpSpPr>
        <p:pic>
          <p:nvPicPr>
            <p:cNvPr id="358" name="Ghosted_Rings-01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>
              <a:off x="1619280" y="1438200"/>
              <a:ext cx="52927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926080" y="2430360"/>
              <a:ext cx="2821680" cy="1245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Инфраструкту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открытых ключе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P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9520" y="4602240"/>
              <a:ext cx="258120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Систем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аутентифика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8640" y="4599000"/>
              <a:ext cx="226692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Технологии шиф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19280" y="1438200"/>
            <a:ext cx="5292720" cy="5097240"/>
            <a:chOff x="1619280" y="1438200"/>
            <a:chExt cx="5292720" cy="5097240"/>
          </a:xfrm>
        </p:grpSpPr>
        <p:pic>
          <p:nvPicPr>
            <p:cNvPr id="364" name="Ghosted_Rings-01" descr=""/>
            <p:cNvPicPr/>
            <p:nvPr/>
          </p:nvPicPr>
          <p:blipFill>
            <a:blip r:embed="rId2">
              <a:lum bright="4000"/>
            </a:blip>
            <a:stretch/>
          </p:blipFill>
          <p:spPr>
            <a:xfrm>
              <a:off x="1619280" y="1438200"/>
              <a:ext cx="5292720" cy="50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RSABSAFE_logo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4781520" y="4785840"/>
              <a:ext cx="194148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RSAKeon_logo" descr=""/>
            <p:cNvPicPr/>
            <p:nvPr/>
          </p:nvPicPr>
          <p:blipFill>
            <a:blip r:embed="rId4"/>
            <a:stretch/>
          </p:blipFill>
          <p:spPr>
            <a:xfrm>
              <a:off x="3457440" y="2689200"/>
              <a:ext cx="1679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RSASecurID_logo" descr=""/>
            <p:cNvPicPr/>
            <p:nvPr/>
          </p:nvPicPr>
          <p:blipFill>
            <a:blip r:embed="rId5"/>
            <a:stretch/>
          </p:blipFill>
          <p:spPr>
            <a:xfrm>
              <a:off x="1846080" y="4790880"/>
              <a:ext cx="2071800" cy="4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70280" y="368280"/>
            <a:ext cx="3558960" cy="575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cc00">
                    <a:alpha val="50000"/>
                  </a:srgbClr>
                </a:solidFill>
                <a:latin typeface="Times New Roman"/>
              </a:rPr>
              <a:t>?</a:t>
            </a:r>
            <a:endParaRPr b="0" lang="en-US" sz="9600" spc="1" strike="noStrike">
              <a:ln w="0">
                <a:noFill/>
              </a:ln>
              <a:solidFill>
                <a:srgbClr val="ffcc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4489560"/>
            <a:ext cx="6019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гтяр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 Юрье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g@demos.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илий Петр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vp@demos.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 956-6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1240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я презентации н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www.demos.su/integrat/secur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утентификация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часть электронной безопас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тентификация - основа е-Бизне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Устанавливает доверие, подтверждая личности участников сделки</a:t>
            </a:r>
            <a:br>
              <a:rPr sz="2000"/>
            </a:b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знания, с высоким уровнем уверенности, с кем Вы имеете дел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Невозможно правильно установить права досту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Нет оснований доверять цифровой подп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многих случаях не имеет смысла шифровать информацию, если неизвестно кто на другом конце ли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00200" y="50292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19280" y="1438200"/>
            <a:ext cx="5292720" cy="5097240"/>
            <a:chOff x="1619280" y="1438200"/>
            <a:chExt cx="5292720" cy="5097240"/>
          </a:xfrm>
        </p:grpSpPr>
        <p:pic>
          <p:nvPicPr>
            <p:cNvPr id="77" name="Ghosted_Rings-01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>
              <a:off x="1619280" y="1438200"/>
              <a:ext cx="5292720" cy="50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RSABSAFE_logo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781520" y="4785840"/>
              <a:ext cx="194148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RSAKeon_logo" descr=""/>
            <p:cNvPicPr/>
            <p:nvPr/>
          </p:nvPicPr>
          <p:blipFill>
            <a:blip r:embed="rId3"/>
            <a:stretch/>
          </p:blipFill>
          <p:spPr>
            <a:xfrm>
              <a:off x="3457440" y="2689200"/>
              <a:ext cx="1679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RSASecurID_logo" descr=""/>
            <p:cNvPicPr/>
            <p:nvPr/>
          </p:nvPicPr>
          <p:blipFill>
            <a:blip r:embed="rId4"/>
            <a:stretch/>
          </p:blipFill>
          <p:spPr>
            <a:xfrm>
              <a:off x="1846080" y="4790880"/>
              <a:ext cx="2071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ухфакторная аутентифик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1371600"/>
            <a:ext cx="6705720" cy="5181480"/>
            <a:chOff x="1295280" y="1371600"/>
            <a:chExt cx="6705720" cy="5181480"/>
          </a:xfrm>
        </p:grpSpPr>
        <p:sp>
          <p:nvSpPr>
            <p:cNvPr id="83" name=""/>
            <p:cNvSpPr/>
            <p:nvPr/>
          </p:nvSpPr>
          <p:spPr>
            <a:xfrm>
              <a:off x="1295280" y="1371600"/>
              <a:ext cx="670572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00200" y="5715000"/>
              <a:ext cx="53341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RSASecurID_logo" descr=""/>
            <p:cNvPicPr/>
            <p:nvPr/>
          </p:nvPicPr>
          <p:blipFill>
            <a:blip r:embed="rId5"/>
            <a:stretch/>
          </p:blipFill>
          <p:spPr>
            <a:xfrm>
              <a:off x="1676520" y="3200400"/>
              <a:ext cx="566100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ейство проду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ceserverflowchart-lowres" descr=""/>
          <p:cNvPicPr/>
          <p:nvPr/>
        </p:nvPicPr>
        <p:blipFill>
          <a:blip r:embed="rId1"/>
          <a:stretch/>
        </p:blipFill>
        <p:spPr>
          <a:xfrm>
            <a:off x="1905120" y="2705040"/>
            <a:ext cx="5143320" cy="293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43600" y="2514600"/>
            <a:ext cx="2362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ACE/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2819520"/>
            <a:ext cx="23619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ACE/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52480"/>
            <a:ext cx="2895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SecurID  аутентификато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d600_fob" descr=""/>
          <p:cNvPicPr/>
          <p:nvPr/>
        </p:nvPicPr>
        <p:blipFill>
          <a:blip r:embed="rId2"/>
          <a:stretch/>
        </p:blipFill>
        <p:spPr>
          <a:xfrm>
            <a:off x="2135160" y="2940120"/>
            <a:ext cx="971640" cy="58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пы устройств двухфакторной аутентиф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01680" y="1539720"/>
            <a:ext cx="5527080" cy="4329360"/>
            <a:chOff x="1201680" y="1539720"/>
            <a:chExt cx="5527080" cy="4329360"/>
          </a:xfrm>
        </p:grpSpPr>
        <p:sp>
          <p:nvSpPr>
            <p:cNvPr id="94" name=""/>
            <p:cNvSpPr/>
            <p:nvPr/>
          </p:nvSpPr>
          <p:spPr>
            <a:xfrm>
              <a:off x="1219680" y="1539720"/>
              <a:ext cx="9360" cy="4291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201680" y="1608120"/>
              <a:ext cx="5527080" cy="4260960"/>
              <a:chOff x="1201680" y="1608120"/>
              <a:chExt cx="5527080" cy="4260960"/>
            </a:xfrm>
          </p:grpSpPr>
          <p:sp>
            <p:nvSpPr>
              <p:cNvPr id="96" name=""/>
              <p:cNvSpPr/>
              <p:nvPr/>
            </p:nvSpPr>
            <p:spPr>
              <a:xfrm>
                <a:off x="1227600" y="478008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27600" y="37195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26701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27600" y="16081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01680" y="58309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01680" y="478008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01680" y="37195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01680" y="26701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1680" y="16081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58309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22760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015280" y="5830920"/>
                <a:ext cx="180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79684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58416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37220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15988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939280" y="5830920"/>
                <a:ext cx="180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2732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09116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7848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112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4700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288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344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84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90160" y="59389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1320" y="618804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429000"/>
            <a:ext cx="5499000" cy="2362320"/>
          </a:xfrm>
          <a:custGeom>
            <a:avLst/>
            <a:gdLst/>
            <a:ahLst/>
            <a:rect l="l" t="t" r="r" b="b"/>
            <a:pathLst>
              <a:path w="4916" h="1488">
                <a:moveTo>
                  <a:pt x="0" y="1488"/>
                </a:moveTo>
                <a:lnTo>
                  <a:pt x="0" y="1431"/>
                </a:lnTo>
                <a:lnTo>
                  <a:pt x="704" y="1355"/>
                </a:lnTo>
                <a:lnTo>
                  <a:pt x="1402" y="1190"/>
                </a:lnTo>
                <a:lnTo>
                  <a:pt x="2106" y="956"/>
                </a:lnTo>
                <a:lnTo>
                  <a:pt x="2810" y="684"/>
                </a:lnTo>
                <a:lnTo>
                  <a:pt x="3514" y="437"/>
                </a:lnTo>
                <a:lnTo>
                  <a:pt x="4212" y="221"/>
                </a:lnTo>
                <a:lnTo>
                  <a:pt x="4916" y="0"/>
                </a:lnTo>
                <a:lnTo>
                  <a:pt x="4916" y="1488"/>
                </a:lnTo>
                <a:lnTo>
                  <a:pt x="4212" y="1488"/>
                </a:lnTo>
                <a:lnTo>
                  <a:pt x="3514" y="1488"/>
                </a:lnTo>
                <a:lnTo>
                  <a:pt x="2810" y="1488"/>
                </a:lnTo>
                <a:lnTo>
                  <a:pt x="2106" y="1488"/>
                </a:lnTo>
                <a:lnTo>
                  <a:pt x="1402" y="1488"/>
                </a:lnTo>
                <a:lnTo>
                  <a:pt x="704" y="1488"/>
                </a:lnTo>
                <a:lnTo>
                  <a:pt x="0" y="1488"/>
                </a:lnTo>
                <a:close/>
              </a:path>
            </a:pathLst>
          </a:custGeom>
          <a:solidFill>
            <a:srgbClr val="8cc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6200" y="4816440"/>
            <a:ext cx="169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фровые сертифик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4280" y="2209680"/>
            <a:ext cx="5499360" cy="3506760"/>
          </a:xfrm>
          <a:custGeom>
            <a:avLst/>
            <a:gdLst/>
            <a:ahLst/>
            <a:rect l="l" t="t" r="r" b="b"/>
            <a:pathLst>
              <a:path w="4916" h="2242">
                <a:moveTo>
                  <a:pt x="0" y="2242"/>
                </a:moveTo>
                <a:lnTo>
                  <a:pt x="0" y="2077"/>
                </a:lnTo>
                <a:lnTo>
                  <a:pt x="704" y="1944"/>
                </a:lnTo>
                <a:lnTo>
                  <a:pt x="1402" y="1710"/>
                </a:lnTo>
                <a:lnTo>
                  <a:pt x="2106" y="1387"/>
                </a:lnTo>
                <a:lnTo>
                  <a:pt x="2810" y="1013"/>
                </a:lnTo>
                <a:lnTo>
                  <a:pt x="3514" y="646"/>
                </a:lnTo>
                <a:lnTo>
                  <a:pt x="4212" y="336"/>
                </a:lnTo>
                <a:lnTo>
                  <a:pt x="4916" y="0"/>
                </a:lnTo>
                <a:lnTo>
                  <a:pt x="4916" y="811"/>
                </a:lnTo>
                <a:lnTo>
                  <a:pt x="4212" y="1032"/>
                </a:lnTo>
                <a:lnTo>
                  <a:pt x="3514" y="1248"/>
                </a:lnTo>
                <a:lnTo>
                  <a:pt x="2810" y="1495"/>
                </a:lnTo>
                <a:lnTo>
                  <a:pt x="2106" y="1767"/>
                </a:lnTo>
                <a:lnTo>
                  <a:pt x="1402" y="2001"/>
                </a:lnTo>
                <a:lnTo>
                  <a:pt x="704" y="2166"/>
                </a:lnTo>
                <a:lnTo>
                  <a:pt x="0" y="2242"/>
                </a:lnTo>
                <a:close/>
              </a:path>
            </a:pathLst>
          </a:custGeom>
          <a:solidFill>
            <a:srgbClr val="f9a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8680" y="1440000"/>
            <a:ext cx="5499000" cy="4012920"/>
          </a:xfrm>
          <a:custGeom>
            <a:avLst/>
            <a:gdLst/>
            <a:ahLst/>
            <a:rect l="l" t="t" r="r" b="b"/>
            <a:pathLst>
              <a:path w="4916" h="2565">
                <a:moveTo>
                  <a:pt x="0" y="2565"/>
                </a:moveTo>
                <a:lnTo>
                  <a:pt x="0" y="2559"/>
                </a:lnTo>
                <a:lnTo>
                  <a:pt x="704" y="2413"/>
                </a:lnTo>
                <a:lnTo>
                  <a:pt x="1402" y="2154"/>
                </a:lnTo>
                <a:lnTo>
                  <a:pt x="2106" y="1793"/>
                </a:lnTo>
                <a:lnTo>
                  <a:pt x="2810" y="1349"/>
                </a:lnTo>
                <a:lnTo>
                  <a:pt x="3514" y="887"/>
                </a:lnTo>
                <a:lnTo>
                  <a:pt x="4212" y="463"/>
                </a:lnTo>
                <a:lnTo>
                  <a:pt x="4916" y="0"/>
                </a:lnTo>
                <a:lnTo>
                  <a:pt x="4916" y="95"/>
                </a:lnTo>
                <a:lnTo>
                  <a:pt x="4212" y="526"/>
                </a:lnTo>
                <a:lnTo>
                  <a:pt x="3514" y="931"/>
                </a:lnTo>
                <a:lnTo>
                  <a:pt x="2810" y="1375"/>
                </a:lnTo>
                <a:lnTo>
                  <a:pt x="2106" y="1805"/>
                </a:lnTo>
                <a:lnTo>
                  <a:pt x="1402" y="2166"/>
                </a:lnTo>
                <a:lnTo>
                  <a:pt x="704" y="2420"/>
                </a:lnTo>
                <a:lnTo>
                  <a:pt x="0" y="2565"/>
                </a:lnTo>
                <a:close/>
              </a:path>
            </a:pathLst>
          </a:custGeom>
          <a:solidFill>
            <a:srgbClr val="98a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8680" y="1587600"/>
            <a:ext cx="5499000" cy="3895560"/>
          </a:xfrm>
          <a:custGeom>
            <a:avLst/>
            <a:gdLst/>
            <a:ahLst/>
            <a:rect l="l" t="t" r="r" b="b"/>
            <a:pathLst>
              <a:path w="4916" h="2489">
                <a:moveTo>
                  <a:pt x="0" y="2489"/>
                </a:moveTo>
                <a:lnTo>
                  <a:pt x="0" y="2470"/>
                </a:lnTo>
                <a:lnTo>
                  <a:pt x="704" y="2325"/>
                </a:lnTo>
                <a:lnTo>
                  <a:pt x="1402" y="2071"/>
                </a:lnTo>
                <a:lnTo>
                  <a:pt x="2106" y="1710"/>
                </a:lnTo>
                <a:lnTo>
                  <a:pt x="2810" y="1280"/>
                </a:lnTo>
                <a:lnTo>
                  <a:pt x="3514" y="836"/>
                </a:lnTo>
                <a:lnTo>
                  <a:pt x="4212" y="431"/>
                </a:lnTo>
                <a:lnTo>
                  <a:pt x="4916" y="0"/>
                </a:lnTo>
                <a:lnTo>
                  <a:pt x="4916" y="412"/>
                </a:lnTo>
                <a:lnTo>
                  <a:pt x="4212" y="748"/>
                </a:lnTo>
                <a:lnTo>
                  <a:pt x="3514" y="1058"/>
                </a:lnTo>
                <a:lnTo>
                  <a:pt x="2810" y="1425"/>
                </a:lnTo>
                <a:lnTo>
                  <a:pt x="2106" y="1799"/>
                </a:lnTo>
                <a:lnTo>
                  <a:pt x="1402" y="2122"/>
                </a:lnTo>
                <a:lnTo>
                  <a:pt x="704" y="2356"/>
                </a:lnTo>
                <a:lnTo>
                  <a:pt x="0" y="2489"/>
                </a:lnTo>
                <a:close/>
              </a:path>
            </a:pathLst>
          </a:custGeom>
          <a:solidFill>
            <a:srgbClr val="ffd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2270160"/>
            <a:ext cx="19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ток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43680" y="1486080"/>
            <a:ext cx="384840" cy="4403880"/>
            <a:chOff x="643680" y="1486080"/>
            <a:chExt cx="384840" cy="4403880"/>
          </a:xfrm>
        </p:grpSpPr>
        <p:sp>
          <p:nvSpPr>
            <p:cNvPr id="130" name=""/>
            <p:cNvSpPr/>
            <p:nvPr/>
          </p:nvSpPr>
          <p:spPr>
            <a:xfrm>
              <a:off x="865800" y="57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680" y="46576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3680" y="3597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3680" y="2546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680" y="14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R380%20open2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192320" cy="349200"/>
          </a:xfrm>
          <a:prstGeom prst="rect">
            <a:avLst/>
          </a:prstGeom>
          <a:ln w="0">
            <a:noFill/>
          </a:ln>
        </p:spPr>
      </p:pic>
      <p:pic>
        <p:nvPicPr>
          <p:cNvPr id="136" name="SecurID_software" descr=""/>
          <p:cNvPicPr/>
          <p:nvPr/>
        </p:nvPicPr>
        <p:blipFill>
          <a:blip r:embed="rId2"/>
          <a:stretch/>
        </p:blipFill>
        <p:spPr>
          <a:xfrm>
            <a:off x="6934320" y="3622680"/>
            <a:ext cx="1023840" cy="8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162920" y="1523880"/>
          <a:ext cx="5094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523880"/>
                    <a:ext cx="509400" cy="619200"/>
                  </a:xfrm>
                  <a:prstGeom prst="rect">
                    <a:avLst/>
                  </a:prstGeom>
                  <a:ln w="349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9" name="sd600_fob" descr=""/>
          <p:cNvPicPr/>
          <p:nvPr/>
        </p:nvPicPr>
        <p:blipFill>
          <a:blip r:embed="rId5"/>
          <a:stretch/>
        </p:blipFill>
        <p:spPr>
          <a:xfrm>
            <a:off x="7162920" y="3241800"/>
            <a:ext cx="1049040" cy="633240"/>
          </a:xfrm>
          <a:prstGeom prst="rect">
            <a:avLst/>
          </a:prstGeom>
          <a:ln w="0">
            <a:noFill/>
          </a:ln>
        </p:spPr>
      </p:pic>
      <p:pic>
        <p:nvPicPr>
          <p:cNvPr id="140" name="palmpilot-illus-lores" descr=""/>
          <p:cNvPicPr/>
          <p:nvPr/>
        </p:nvPicPr>
        <p:blipFill>
          <a:blip r:embed="rId6"/>
          <a:stretch/>
        </p:blipFill>
        <p:spPr>
          <a:xfrm>
            <a:off x="6858000" y="2209680"/>
            <a:ext cx="766800" cy="838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6200000">
            <a:off x="-1814760" y="3559320"/>
            <a:ext cx="44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лено (весь мир), мл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долла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martcard_1100" descr=""/>
          <p:cNvPicPr/>
          <p:nvPr/>
        </p:nvPicPr>
        <p:blipFill>
          <a:blip r:embed="rId7"/>
          <a:stretch/>
        </p:blipFill>
        <p:spPr>
          <a:xfrm>
            <a:off x="7696080" y="5124600"/>
            <a:ext cx="1273320" cy="819000"/>
          </a:xfrm>
          <a:prstGeom prst="rect">
            <a:avLst/>
          </a:prstGeom>
          <a:ln w="0">
            <a:noFill/>
          </a:ln>
        </p:spPr>
      </p:pic>
      <p:pic>
        <p:nvPicPr>
          <p:cNvPr id="143" name="smartcard_3100_ID" descr=""/>
          <p:cNvPicPr/>
          <p:nvPr/>
        </p:nvPicPr>
        <p:blipFill>
          <a:blip r:embed="rId8"/>
          <a:stretch/>
        </p:blipFill>
        <p:spPr>
          <a:xfrm>
            <a:off x="6934320" y="4667400"/>
            <a:ext cx="1266840" cy="83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772400" y="1523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50 -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100 на пять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4800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100 -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192480"/>
            <a:ext cx="175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паратные ток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1560" y="1600200"/>
            <a:ext cx="189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хронизированные во времени устройства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00080" y="1523880"/>
            <a:ext cx="81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-факто стандартная технология аутентификации в мире удаленного дост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Обслуживается свыше 7 миллионов пользов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Zero foot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Не требует установки дополнительного программного обеспечения на компьютер пользов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Быстрое внед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ий выбор устройств и прило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Аппаратные ток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ограммные ток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Токен-бр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Карманные компьютеры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lm Pi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отовые телеф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nagerbox" descr=""/>
          <p:cNvPicPr/>
          <p:nvPr/>
        </p:nvPicPr>
        <p:blipFill>
          <a:blip r:embed="rId1"/>
          <a:stretch/>
        </p:blipFill>
        <p:spPr>
          <a:xfrm>
            <a:off x="5443560" y="1706400"/>
            <a:ext cx="1920960" cy="2702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хронизация во врем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4340160"/>
            <a:ext cx="1700280" cy="179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46520" y="4233960"/>
            <a:ext cx="2030400" cy="3380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тор ген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760000">
            <a:off x="2279160" y="2644560"/>
            <a:ext cx="241200" cy="1955880"/>
          </a:xfrm>
          <a:prstGeom prst="upArrow">
            <a:avLst>
              <a:gd name="adj1" fmla="val 75009"/>
              <a:gd name="adj2" fmla="val 40541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1920" y="4233960"/>
            <a:ext cx="825480" cy="3524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0120" y="2592360"/>
            <a:ext cx="173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35498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4360" y="1754280"/>
            <a:ext cx="2097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eaa"/>
                </a:solidFill>
                <a:latin typeface="Arial"/>
              </a:rPr>
              <a:t>RSA ACE/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3040" y="1913040"/>
            <a:ext cx="274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eaa"/>
                </a:solidFill>
                <a:latin typeface="Arial"/>
              </a:rPr>
              <a:t>Аутентифик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9080" y="4579920"/>
            <a:ext cx="1800" cy="1055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46520" y="5197320"/>
            <a:ext cx="4680" cy="438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60880" y="5621400"/>
            <a:ext cx="408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4200" y="4579920"/>
            <a:ext cx="1800" cy="148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23000" y="5164200"/>
            <a:ext cx="0" cy="893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8080" y="6058080"/>
            <a:ext cx="4462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720" y="3432240"/>
            <a:ext cx="1584360" cy="37620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8600" y="4879800"/>
            <a:ext cx="1700280" cy="179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66000" y="4773600"/>
            <a:ext cx="2025720" cy="33192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тор ген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760000">
            <a:off x="6304680" y="3253680"/>
            <a:ext cx="230400" cy="1869840"/>
          </a:xfrm>
          <a:prstGeom prst="upArrow">
            <a:avLst>
              <a:gd name="adj1" fmla="val 75009"/>
              <a:gd name="adj2" fmla="val 40574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52920" y="4773600"/>
            <a:ext cx="825480" cy="3524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89680" y="3201840"/>
            <a:ext cx="1182600" cy="387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60606"/>
              </a:gs>
            </a:gsLst>
            <a:lin ang="5400000"/>
          </a:gradFill>
          <a:ln w="12600">
            <a:solidFill>
              <a:srgbClr val="d89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3189240"/>
            <a:ext cx="173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35498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3160" y="3984480"/>
            <a:ext cx="1584360" cy="37656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81480" y="5230800"/>
            <a:ext cx="3171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eaa"/>
                </a:solidFill>
                <a:latin typeface="Arial"/>
              </a:rPr>
              <a:t>Одинаковые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87520" y="5668920"/>
            <a:ext cx="3541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eaa"/>
                </a:solidFill>
                <a:latin typeface="Arial"/>
              </a:rPr>
              <a:t>Одинаковое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D200_standard" descr=""/>
          <p:cNvPicPr/>
          <p:nvPr/>
        </p:nvPicPr>
        <p:blipFill>
          <a:blip r:embed="rId2"/>
          <a:stretch/>
        </p:blipFill>
        <p:spPr>
          <a:xfrm>
            <a:off x="507960" y="1755720"/>
            <a:ext cx="2292480" cy="151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2788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ппаратные ток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5715000" cy="42177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ий выбор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Бр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Кар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ин-кар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Zero-footprint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Не требуют установки дополнительного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осты в исполь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ые устройства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d600_fob" descr=""/>
          <p:cNvPicPr/>
          <p:nvPr/>
        </p:nvPicPr>
        <p:blipFill>
          <a:blip r:embed="rId1"/>
          <a:stretch/>
        </p:blipFill>
        <p:spPr>
          <a:xfrm>
            <a:off x="5560920" y="2724120"/>
            <a:ext cx="1889280" cy="1141560"/>
          </a:xfrm>
          <a:prstGeom prst="rect">
            <a:avLst/>
          </a:prstGeom>
          <a:ln w="0">
            <a:noFill/>
          </a:ln>
        </p:spPr>
      </p:pic>
      <p:pic>
        <p:nvPicPr>
          <p:cNvPr id="181" name="SD200_standard" descr=""/>
          <p:cNvPicPr/>
          <p:nvPr/>
        </p:nvPicPr>
        <p:blipFill>
          <a:blip r:embed="rId2"/>
          <a:stretch/>
        </p:blipFill>
        <p:spPr>
          <a:xfrm>
            <a:off x="7007400" y="3297240"/>
            <a:ext cx="188892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2:17:11Z</dcterms:created>
  <dc:creator>Shmelev Alexandr</dc:creator>
  <dc:description/>
  <dc:language>en-US</dc:language>
  <cp:lastModifiedBy>Shmelev Alexandr</cp:lastModifiedBy>
  <cp:lastPrinted>2001-06-15T12:42:15Z</cp:lastPrinted>
  <dcterms:modified xsi:type="dcterms:W3CDTF">2001-06-19T11:14:03Z</dcterms:modified>
  <cp:revision>10</cp:revision>
  <dc:subject/>
  <dc:title>No Slide Title</dc:title>
</cp:coreProperties>
</file>